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24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CFA64-7CE0-49F5-926E-82FA2BE3D6EA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438F3-ACF2-486D-BFCF-E98270F9A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F2E24-F07F-44AF-965B-87192E725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2B21BD-A0C7-4130-920C-A85140631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44B383-B717-401A-86FB-219975F4C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2E6F49-B487-453A-9E01-3C73EED13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E5D6AF-52E3-439A-8A5B-B5DD3E236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61BB0D-22AD-4E01-9634-EF212C76B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962A15-3F69-46F5-81E2-94CC2075B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CAB3DC-4B6C-4010-BFBE-52B4AFEB7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DBF2A9-687B-4E95-97AF-D450B7DA5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0195DF-44DF-48B0-8185-48025A54F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AA79A3-1DB3-48DD-9870-ACE2452E6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A29FB-9D8E-491C-A266-9B8568B41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D00006-67E2-4607-A8A2-21AC08C25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ED18B4-00AE-45C6-A0FC-AD6553AFE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9CC1E6-4F7D-435C-B1E2-7DB47F899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00124F-3A55-4927-A769-BBDE38931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873AC4-5B4F-4B96-ABAE-699E9F5FE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54D57C-6AB3-4944-93D4-0A34C2375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4F041C-FDA0-4757-8EAE-ABDA74164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692F8D-6FEB-42ED-BB2B-8ECCE538E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E52C9A-C030-47EE-B24C-485132602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0C1D7B-031C-40D3-9045-F321F6F2C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B76FB-FCC5-4E90-9270-E72B42F23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EFDF0E-E8B3-404B-93C7-A95A07AC4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92BDFD-8F0C-49CE-B566-E2C79AB4E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3E9831-F66D-4D36-B742-4477BD2C5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899858-0057-452B-ABDC-E9FAA0D05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99DB5B-876F-4F2F-B646-924DD2E92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B560C5-7559-4455-9D78-0B4AC57A0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5BD372-F554-4995-9999-69806776D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E50FB3-0348-45DD-AC77-D83363096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E373D2-9BC2-4EBC-87D9-C017EBDA0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5A8556-CA78-4152-B53F-98C65D5F3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08C15-D24B-4780-861F-28C8761CF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91552B-DDC6-49C2-B8EC-02CBB878B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B83D2A-2082-4C4C-ABFC-449CD6994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312E33-8F10-4A23-BA17-8F833E4D0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DA061E-EC1D-4684-8F61-8A7244B7D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AA798D-525D-4FD6-B5B4-6A865AB4C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CC041C-57B0-474B-8237-29FE58206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E4FFD4-40A5-4C86-81F9-A324A3D45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715C38-BA16-4680-B5A1-441272E42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4DB746-BE7C-40C6-A76C-0D5FC40E1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CE3D0C-ADF2-4793-A7E3-BF27D8B93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437A1-74C0-4487-B69F-D309D98EB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A45663-C40F-4E6A-9B58-685193E1C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06E313-2D8F-4AB2-9ACA-8AA5E37DE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246D15-F05A-4EB9-9FE3-0D86D1F1E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AF4B6A-070F-49AE-8A43-2167B54DE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09AA6D-5CCA-4B92-9570-B7243372A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7FD0760-172F-441F-80D9-E18ECD4E0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034BC0F-A9A3-4CDD-8C23-9E0B8639A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C132BE9-AF2A-40D4-B340-70D5D8DA1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89020BC-4451-4F00-BEE4-6764D530B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AC42409-9BE2-426E-96BC-7DEB34D5E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626B5-CC6A-47DB-B301-0AF745153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E5F0DC3-33C1-435B-B638-1A2982DB9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52E3B90-DB45-47EE-BD25-40B7895B4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26BA20A-1D2D-4F1C-950A-EA9B4EF43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8FB3D83-B2EC-4EC1-A92E-294ACFE0D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E897E39-049A-4333-8CEE-6FF55096C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1F32411-CC0E-4C83-8617-EEE11E004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059CC76-3748-4B47-9626-F40C03376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CB012-F74B-4BB4-9D7D-5B0E41667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DA46B-397C-4C38-8192-6BF451C7F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F45EE-D5FA-4BAF-9B22-DE8CFC26B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A1466-9696-4962-B04D-BE76A80AC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9963A-90CF-4C77-A121-7603C4F65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42D46-F47B-4C20-A4B9-AFF13293A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778F8-A69C-47B4-8522-3521208B2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74B2D-9FAB-444E-A687-0C5B4793A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DFE8F-439A-47E8-AD13-73F35B79F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46265-C9BB-46AF-8EF9-5D9328A64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26CD10-2420-4C7B-B5A9-A254306E7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AC70FA-5A91-4F52-B83B-0B1EF42BF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EC1B77-B088-4AF3-B3F7-33485C500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23910C-2E67-472A-BE34-57EAD8F01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799759-2F8E-4C98-BBF2-3C0212BD7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D0C86-816B-4A1F-98F0-04FD76D13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681C8C-78B6-4110-9B6F-4E15D87D0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894DE6-635C-4672-A28B-6C6B8B725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DA8766-2CFE-472E-A3D9-B78B111CF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281593-E164-4F1E-91D3-C9900A5B5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7965C3-B20D-4CB7-8934-80E3D5B4C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222973-0CAC-43E3-9CDE-1C0CEE051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1945AF-8C6C-442C-A7C1-DC11DD8FB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9248AD-6B94-4A03-AA1B-3957ADA5E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1F9FAC-6861-47FE-8310-EBE7AABA9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53F27D-B94E-4555-B235-6C7F9F7D2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F7DB6-C0D8-470B-8F61-4FF2608E4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B63AA5-96FE-40C1-A557-B3AA8830E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54AF1C-AAA6-4FEE-9E90-DF767C0F2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61297D-1056-43AF-B0C4-EC0F76DB7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F9DB77-9888-4167-8289-4DAD81126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40589C-69C8-46D8-B58D-6FC58EEA0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7EDBE8-2627-45A5-ABEB-140240902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47C8CD-96F7-4138-A559-5A6092BF5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24DBBC-027F-4638-836A-4675D9D3B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D8CBDC-A432-43BE-882B-A34F2AC95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301E69-E5A0-4C7E-B4F8-381D092CD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47E2D-BB7A-4FCB-A7EE-FC125CF33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5D6402-34EA-41C1-8370-F4B822C28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1A3C9C-CDF5-434D-B5C6-6E6ECC2BD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7D2455-8AE5-4878-B3D9-5FB133867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668F01-A098-43F2-B4BD-47DD726FC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3CEED7-6DC4-4C7F-B072-0D0883833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1AC262-6D13-48D3-A129-5B01A89D6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051316-5E06-41D8-A0BF-0CA65DD41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BE2828-3CD0-41F9-94E2-0C75D153A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5B1DB7-7705-4D49-A7F8-CEF566EC5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5609F3-2C10-4FC1-AE44-6B409452F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3D91D-01B3-46CE-A5C6-F0B46252D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3272A7-DF5D-4E2C-9449-D5960CDB2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7A99223-18D2-44D9-B535-A276C0A63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BC4D684-5CD9-4552-82CF-F4A22F0EE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8D58312-726B-4F41-A24F-3DFF4D1E7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BFB62A8-290F-4710-AE2F-8ED89F822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C358453-EF8B-48B1-99D1-06C35B19E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B55AA0C-D9CA-4E61-AA42-DB10E43BA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E11253B-1092-4E8A-A6CE-0BD165A43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5328AFA-1ADF-4A39-8489-3B994886C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51FB6CB-455E-4CEC-BDF9-D8E162649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E95F3-042B-4F1E-A6BD-474715CB3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A45813F-EFFC-48F4-8EA2-E9E873039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BDB6DB6-5E8E-4D3A-AF2E-7DC5D694A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47BB5F1-3F28-47E7-A7E9-F9757ABDC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1D0791-5BD5-48BD-9C4A-FCD6E9F3A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40E0C0-8C55-48E4-A3E1-2AE4AFC6C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A7AE72-CBD9-4976-A7AB-31064FA76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94E8D6-F38F-4D0A-9494-577AB00D5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6E71F0-152E-4BBA-AFDE-B9674752C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2D0018-35D8-43F0-800B-B0436001B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9143A4-15EF-4DB5-8BF1-475FCB077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B506E-48BF-4162-8632-A83CC0200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F565A5-3B7A-448B-96FA-91DDB3967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D55C2B-8EAC-40CA-B726-182EDF9DE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CC1D67-3A3E-4540-A5A4-508392BF1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AD64C8-DEE7-46B1-B91F-C1BA786E7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43E710-E595-4F29-A9C8-0CE7EDD3B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C84A63-6F7F-4F33-A800-DE34F0338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A63E25-B5BB-4E40-A009-4DAB0FC7A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33531A-3178-44DA-8810-AEE8844E2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65960E-A29E-4AE6-B183-65426EEE3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C63190-874B-40B3-8172-FAF390D35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5564B-7ED4-48DC-82A6-8CF7EA974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F954B7-AB63-4468-A74F-6D5FD4A16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E1588D-A1B8-4C8D-B7BE-7A1D986EE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D29321-1F3B-4B07-AC28-B8EBEF41C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8116BB-3C88-4F6C-999C-28FD514B6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C0F302-FA0F-4CEC-9C25-0F346436E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71757A-F29B-405B-9A40-ED841E07C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49A5E5-EC69-467B-92AA-D3036A25E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BFA02E-458C-4C8F-80F9-71A297BE6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A16217-7823-4C25-ACD6-61D764112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D531FA-7E73-4FB4-BD9A-BEBE0FB98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6FEB8-6E65-4024-8DED-82FC1CDCA55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D53E0-345B-43F8-9632-81E306EF052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E3AC9-7542-4DC6-A913-2499C6138C0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FEA3B-67A9-418E-B96E-4B4780FBA24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47DAF-B8C0-4CCE-BCF0-CA27524D088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7D0DE-E4E6-4D33-9AF0-05A61D90033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DC72B-14B8-47D8-8677-CE927FCF3B4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0CA41-D930-4330-BD58-870CC44496F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FDAD7-B1A5-437B-8E1C-5ED8B196807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0652A-9E2C-47B3-8885-9D1A8847D81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9FDE8-EE78-4DBB-A1C5-E3A8A96AE3F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830CA-07F1-42FF-B4B2-B41BAA00F81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CBC23-8F39-438B-9A9E-EEB4DD1EB95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9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4.png"/><Relationship Id="rId8" Type="http://schemas.openxmlformats.org/officeDocument/2006/relationships/image" Target="../media/image16.png"/><Relationship Id="rId9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7.png"/><Relationship Id="rId5" Type="http://schemas.openxmlformats.org/officeDocument/2006/relationships/image" Target="../media/image12.png"/><Relationship Id="rId6" Type="http://schemas.openxmlformats.org/officeDocument/2006/relationships/image" Target="../media/image9.png"/><Relationship Id="rId7" Type="http://schemas.openxmlformats.org/officeDocument/2006/relationships/image" Target="../media/image14.png"/><Relationship Id="rId8" Type="http://schemas.openxmlformats.org/officeDocument/2006/relationships/image" Target="../media/image18.png"/><Relationship Id="rId9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9.png"/><Relationship Id="rId5" Type="http://schemas.openxmlformats.org/officeDocument/2006/relationships/image" Target="../media/image12.png"/><Relationship Id="rId6" Type="http://schemas.openxmlformats.org/officeDocument/2006/relationships/image" Target="../media/image9.png"/><Relationship Id="rId7" Type="http://schemas.openxmlformats.org/officeDocument/2006/relationships/image" Target="../media/image14.png"/><Relationship Id="rId8" Type="http://schemas.openxmlformats.org/officeDocument/2006/relationships/image" Target="../media/image20.png"/><Relationship Id="rId9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21.png"/><Relationship Id="rId5" Type="http://schemas.openxmlformats.org/officeDocument/2006/relationships/image" Target="../media/image12.png"/><Relationship Id="rId6" Type="http://schemas.openxmlformats.org/officeDocument/2006/relationships/image" Target="../media/image9.png"/><Relationship Id="rId7" Type="http://schemas.openxmlformats.org/officeDocument/2006/relationships/image" Target="../media/image14.png"/><Relationship Id="rId8" Type="http://schemas.openxmlformats.org/officeDocument/2006/relationships/image" Target="../media/image22.png"/><Relationship Id="rId9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23.png"/><Relationship Id="rId5" Type="http://schemas.openxmlformats.org/officeDocument/2006/relationships/image" Target="../media/image12.png"/><Relationship Id="rId6" Type="http://schemas.openxmlformats.org/officeDocument/2006/relationships/image" Target="../media/image9.png"/><Relationship Id="rId7" Type="http://schemas.openxmlformats.org/officeDocument/2006/relationships/image" Target="../media/image14.png"/><Relationship Id="rId8" Type="http://schemas.openxmlformats.org/officeDocument/2006/relationships/image" Target="../media/image24.png"/><Relationship Id="rId9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image" Target="../media/image30.png"/><Relationship Id="rId9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9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image" Target="../media/image35.png"/><Relationship Id="rId8" Type="http://schemas.openxmlformats.org/officeDocument/2006/relationships/image" Target="../media/image36.png"/><Relationship Id="rId9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768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769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2060"/>
              </a:solidFill>
              <a:ln w="9360">
                <a:solidFill>
                  <a:srgbClr val="a04da3"/>
                </a:solidFill>
                <a:miter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002060"/>
              </a:solidFill>
              <a:ln w="0">
                <a:noFill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1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772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4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83a7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5" name="직사각형 5" descr=""/>
          <p:cNvPicPr/>
          <p:nvPr/>
        </p:nvPicPr>
        <p:blipFill>
          <a:blip r:embed="rId2"/>
          <a:stretch/>
        </p:blipFill>
        <p:spPr>
          <a:xfrm>
            <a:off x="401760" y="2401920"/>
            <a:ext cx="2182680" cy="1054080"/>
          </a:xfrm>
          <a:prstGeom prst="rect">
            <a:avLst/>
          </a:prstGeom>
          <a:ln w="0">
            <a:noFill/>
          </a:ln>
        </p:spPr>
      </p:pic>
      <p:pic>
        <p:nvPicPr>
          <p:cNvPr id="776" name="직사각형 6" descr=""/>
          <p:cNvPicPr/>
          <p:nvPr/>
        </p:nvPicPr>
        <p:blipFill>
          <a:blip r:embed="rId3"/>
          <a:stretch/>
        </p:blipFill>
        <p:spPr>
          <a:xfrm>
            <a:off x="328680" y="3328920"/>
            <a:ext cx="3176640" cy="1719360"/>
          </a:xfrm>
          <a:prstGeom prst="rect">
            <a:avLst/>
          </a:prstGeom>
          <a:ln w="0">
            <a:noFill/>
          </a:ln>
        </p:spPr>
      </p:pic>
      <p:sp>
        <p:nvSpPr>
          <p:cNvPr id="777" name="직사각형 45"/>
          <p:cNvSpPr/>
          <p:nvPr/>
        </p:nvSpPr>
        <p:spPr>
          <a:xfrm>
            <a:off x="4644720" y="1857240"/>
            <a:ext cx="95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전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직사각형 45"/>
          <p:cNvSpPr/>
          <p:nvPr/>
        </p:nvSpPr>
        <p:spPr>
          <a:xfrm>
            <a:off x="4862880" y="2500200"/>
            <a:ext cx="147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문제 해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0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515C9-6981-486B-BF5C-223A5C19793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0" name="TextBox 9" descr=""/>
          <p:cNvPicPr/>
          <p:nvPr/>
        </p:nvPicPr>
        <p:blipFill>
          <a:blip r:embed="rId1"/>
          <a:stretch/>
        </p:blipFill>
        <p:spPr>
          <a:xfrm>
            <a:off x="6576840" y="506520"/>
            <a:ext cx="232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41" name="그룹 129"/>
          <p:cNvGrpSpPr/>
          <p:nvPr/>
        </p:nvGrpSpPr>
        <p:grpSpPr>
          <a:xfrm>
            <a:off x="298440" y="2300400"/>
            <a:ext cx="8535960" cy="3655800"/>
            <a:chOff x="298440" y="2300400"/>
            <a:chExt cx="8535960" cy="3655800"/>
          </a:xfrm>
        </p:grpSpPr>
        <p:grpSp>
          <p:nvGrpSpPr>
            <p:cNvPr id="1142" name="그룹 56"/>
            <p:cNvGrpSpPr/>
            <p:nvPr/>
          </p:nvGrpSpPr>
          <p:grpSpPr>
            <a:xfrm>
              <a:off x="7505640" y="3916800"/>
              <a:ext cx="352440" cy="455400"/>
              <a:chOff x="7505640" y="3916800"/>
              <a:chExt cx="352440" cy="455400"/>
            </a:xfrm>
          </p:grpSpPr>
          <p:sp>
            <p:nvSpPr>
              <p:cNvPr id="1143" name="오른쪽 화살표 84"/>
              <p:cNvSpPr/>
              <p:nvPr/>
            </p:nvSpPr>
            <p:spPr>
              <a:xfrm rot="5400000">
                <a:off x="7454160" y="3968280"/>
                <a:ext cx="455400" cy="352440"/>
              </a:xfrm>
              <a:prstGeom prst="rightArrow">
                <a:avLst>
                  <a:gd name="adj1" fmla="val 60000"/>
                  <a:gd name="adj2" fmla="val 49980"/>
                </a:avLst>
              </a:prstGeom>
              <a:solidFill>
                <a:srgbClr val="4757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4" name="오른쪽 화살표 20"/>
              <p:cNvSpPr/>
              <p:nvPr/>
            </p:nvSpPr>
            <p:spPr>
              <a:xfrm rot="5400000">
                <a:off x="7507080" y="3984840"/>
                <a:ext cx="349200" cy="21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300"/>
                  </a:spcAft>
                  <a:tabLst>
                    <a:tab algn="l" pos="0"/>
                    <a:tab algn="l" pos="311040"/>
                    <a:tab algn="l" pos="622440"/>
                    <a:tab algn="l" pos="933480"/>
                    <a:tab algn="l" pos="1244520"/>
                    <a:tab algn="l" pos="1555920"/>
                    <a:tab algn="l" pos="1866960"/>
                    <a:tab algn="l" pos="2178000"/>
                    <a:tab algn="l" pos="2489040"/>
                    <a:tab algn="l" pos="2800440"/>
                    <a:tab algn="l" pos="3111480"/>
                    <a:tab algn="l" pos="3422520"/>
                    <a:tab algn="l" pos="3733920"/>
                    <a:tab algn="l" pos="4044960"/>
                    <a:tab algn="l" pos="4356000"/>
                    <a:tab algn="l" pos="4667400"/>
                    <a:tab algn="l" pos="4978440"/>
                    <a:tab algn="l" pos="5289480"/>
                    <a:tab algn="l" pos="5600880"/>
                    <a:tab algn="l" pos="5911920"/>
                    <a:tab algn="l" pos="622296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5" name="그룹 59"/>
            <p:cNvGrpSpPr/>
            <p:nvPr/>
          </p:nvGrpSpPr>
          <p:grpSpPr>
            <a:xfrm>
              <a:off x="5877000" y="5234040"/>
              <a:ext cx="455040" cy="352800"/>
              <a:chOff x="5877000" y="5234040"/>
              <a:chExt cx="455040" cy="352800"/>
            </a:xfrm>
          </p:grpSpPr>
          <p:sp>
            <p:nvSpPr>
              <p:cNvPr id="1146" name="오른쪽 화살표 78"/>
              <p:cNvSpPr/>
              <p:nvPr/>
            </p:nvSpPr>
            <p:spPr>
              <a:xfrm flipH="1">
                <a:off x="5877000" y="5234040"/>
                <a:ext cx="455040" cy="352800"/>
              </a:xfrm>
              <a:prstGeom prst="rightArrow">
                <a:avLst>
                  <a:gd name="adj1" fmla="val 60000"/>
                  <a:gd name="adj2" fmla="val 49878"/>
                </a:avLst>
              </a:prstGeom>
              <a:solidFill>
                <a:srgbClr val="4d49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7" name="오른쪽 화살표 26"/>
              <p:cNvSpPr/>
              <p:nvPr/>
            </p:nvSpPr>
            <p:spPr>
              <a:xfrm flipH="1">
                <a:off x="5982840" y="5303880"/>
                <a:ext cx="348840" cy="21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300"/>
                  </a:spcAft>
                  <a:tabLst>
                    <a:tab algn="l" pos="0"/>
                    <a:tab algn="l" pos="311040"/>
                    <a:tab algn="l" pos="622440"/>
                    <a:tab algn="l" pos="933480"/>
                    <a:tab algn="l" pos="1244520"/>
                    <a:tab algn="l" pos="1555920"/>
                    <a:tab algn="l" pos="1866960"/>
                    <a:tab algn="l" pos="2178000"/>
                    <a:tab algn="l" pos="2489040"/>
                    <a:tab algn="l" pos="2800440"/>
                    <a:tab algn="l" pos="3111480"/>
                    <a:tab algn="l" pos="3422520"/>
                    <a:tab algn="l" pos="3733920"/>
                    <a:tab algn="l" pos="4044960"/>
                    <a:tab algn="l" pos="4356000"/>
                    <a:tab algn="l" pos="4667400"/>
                    <a:tab algn="l" pos="4978440"/>
                    <a:tab algn="l" pos="5289480"/>
                    <a:tab algn="l" pos="5600880"/>
                    <a:tab algn="l" pos="5911920"/>
                    <a:tab algn="l" pos="622296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8" name="그룹 62"/>
            <p:cNvGrpSpPr/>
            <p:nvPr/>
          </p:nvGrpSpPr>
          <p:grpSpPr>
            <a:xfrm>
              <a:off x="2786400" y="5234040"/>
              <a:ext cx="455040" cy="352800"/>
              <a:chOff x="2786400" y="5234040"/>
              <a:chExt cx="455040" cy="352800"/>
            </a:xfrm>
          </p:grpSpPr>
          <p:sp>
            <p:nvSpPr>
              <p:cNvPr id="1149" name="오른쪽 화살표 72"/>
              <p:cNvSpPr/>
              <p:nvPr/>
            </p:nvSpPr>
            <p:spPr>
              <a:xfrm flipH="1">
                <a:off x="2786400" y="5234040"/>
                <a:ext cx="455040" cy="352800"/>
              </a:xfrm>
              <a:prstGeom prst="rightArrow">
                <a:avLst>
                  <a:gd name="adj1" fmla="val 60000"/>
                  <a:gd name="adj2" fmla="val 49878"/>
                </a:avLst>
              </a:prstGeom>
              <a:solidFill>
                <a:srgbClr val="624b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0" name="오른쪽 화살표 32"/>
              <p:cNvSpPr/>
              <p:nvPr/>
            </p:nvSpPr>
            <p:spPr>
              <a:xfrm flipH="1">
                <a:off x="2892240" y="5303880"/>
                <a:ext cx="348840" cy="21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300"/>
                  </a:spcAft>
                  <a:tabLst>
                    <a:tab algn="l" pos="0"/>
                    <a:tab algn="l" pos="311040"/>
                    <a:tab algn="l" pos="622440"/>
                    <a:tab algn="l" pos="933480"/>
                    <a:tab algn="l" pos="1244520"/>
                    <a:tab algn="l" pos="1555920"/>
                    <a:tab algn="l" pos="1866960"/>
                    <a:tab algn="l" pos="2178000"/>
                    <a:tab algn="l" pos="2489040"/>
                    <a:tab algn="l" pos="2800440"/>
                    <a:tab algn="l" pos="3111480"/>
                    <a:tab algn="l" pos="3422520"/>
                    <a:tab algn="l" pos="3733920"/>
                    <a:tab algn="l" pos="4044960"/>
                    <a:tab algn="l" pos="4356000"/>
                    <a:tab algn="l" pos="4667400"/>
                    <a:tab algn="l" pos="4978440"/>
                    <a:tab algn="l" pos="5289480"/>
                    <a:tab algn="l" pos="5600880"/>
                    <a:tab algn="l" pos="5911920"/>
                    <a:tab algn="l" pos="622296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1" name="그룹 128"/>
            <p:cNvGrpSpPr/>
            <p:nvPr/>
          </p:nvGrpSpPr>
          <p:grpSpPr>
            <a:xfrm>
              <a:off x="334080" y="2300400"/>
              <a:ext cx="8476920" cy="1500120"/>
              <a:chOff x="334080" y="2300400"/>
              <a:chExt cx="8476920" cy="1500120"/>
            </a:xfrm>
          </p:grpSpPr>
          <p:grpSp>
            <p:nvGrpSpPr>
              <p:cNvPr id="1152" name="그룹 41"/>
              <p:cNvGrpSpPr/>
              <p:nvPr/>
            </p:nvGrpSpPr>
            <p:grpSpPr>
              <a:xfrm>
                <a:off x="2877840" y="3027960"/>
                <a:ext cx="455040" cy="352800"/>
                <a:chOff x="2877840" y="3027960"/>
                <a:chExt cx="455040" cy="352800"/>
              </a:xfrm>
            </p:grpSpPr>
            <p:sp>
              <p:nvSpPr>
                <p:cNvPr id="1153" name="오른쪽 화살표 96"/>
                <p:cNvSpPr/>
                <p:nvPr/>
              </p:nvSpPr>
              <p:spPr>
                <a:xfrm>
                  <a:off x="2877840" y="3027960"/>
                  <a:ext cx="455040" cy="352800"/>
                </a:xfrm>
                <a:prstGeom prst="rightArrow">
                  <a:avLst>
                    <a:gd name="adj1" fmla="val 60000"/>
                    <a:gd name="adj2" fmla="val 51675"/>
                  </a:avLst>
                </a:prstGeom>
                <a:solidFill>
                  <a:srgbClr val="43808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4" name="오른쪽 화살표 8"/>
                <p:cNvSpPr/>
                <p:nvPr/>
              </p:nvSpPr>
              <p:spPr>
                <a:xfrm>
                  <a:off x="2877840" y="3107520"/>
                  <a:ext cx="348840" cy="20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300"/>
                    </a:spcAft>
                    <a:tabLst>
                      <a:tab algn="l" pos="0"/>
                      <a:tab algn="l" pos="311040"/>
                      <a:tab algn="l" pos="622440"/>
                      <a:tab algn="l" pos="933480"/>
                      <a:tab algn="l" pos="1244520"/>
                      <a:tab algn="l" pos="1555920"/>
                      <a:tab algn="l" pos="1866960"/>
                      <a:tab algn="l" pos="2178000"/>
                      <a:tab algn="l" pos="2489040"/>
                      <a:tab algn="l" pos="2800440"/>
                      <a:tab algn="l" pos="3111480"/>
                      <a:tab algn="l" pos="3422520"/>
                      <a:tab algn="l" pos="3733920"/>
                      <a:tab algn="l" pos="4044960"/>
                      <a:tab algn="l" pos="4356000"/>
                      <a:tab algn="l" pos="4667400"/>
                      <a:tab algn="l" pos="4978440"/>
                      <a:tab algn="l" pos="5289480"/>
                      <a:tab algn="l" pos="5600880"/>
                      <a:tab algn="l" pos="5911920"/>
                      <a:tab algn="l" pos="622296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5" name="그룹 52"/>
              <p:cNvGrpSpPr/>
              <p:nvPr/>
            </p:nvGrpSpPr>
            <p:grpSpPr>
              <a:xfrm>
                <a:off x="5949720" y="3027960"/>
                <a:ext cx="455040" cy="352800"/>
                <a:chOff x="5949720" y="3027960"/>
                <a:chExt cx="455040" cy="352800"/>
              </a:xfrm>
            </p:grpSpPr>
            <p:sp>
              <p:nvSpPr>
                <p:cNvPr id="1156" name="오른쪽 화살표 90"/>
                <p:cNvSpPr/>
                <p:nvPr/>
              </p:nvSpPr>
              <p:spPr>
                <a:xfrm>
                  <a:off x="5949720" y="3027960"/>
                  <a:ext cx="455040" cy="352800"/>
                </a:xfrm>
                <a:prstGeom prst="rightArrow">
                  <a:avLst>
                    <a:gd name="adj1" fmla="val 60000"/>
                    <a:gd name="adj2" fmla="val 53156"/>
                  </a:avLst>
                </a:prstGeom>
                <a:solidFill>
                  <a:srgbClr val="456b8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7" name="오른쪽 화살표 14"/>
                <p:cNvSpPr/>
                <p:nvPr/>
              </p:nvSpPr>
              <p:spPr>
                <a:xfrm>
                  <a:off x="5949720" y="3107520"/>
                  <a:ext cx="358920" cy="20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300"/>
                    </a:spcAft>
                    <a:tabLst>
                      <a:tab algn="l" pos="0"/>
                      <a:tab algn="l" pos="311040"/>
                      <a:tab algn="l" pos="622440"/>
                      <a:tab algn="l" pos="933480"/>
                      <a:tab algn="l" pos="1244520"/>
                      <a:tab algn="l" pos="1555920"/>
                      <a:tab algn="l" pos="1866960"/>
                      <a:tab algn="l" pos="2178000"/>
                      <a:tab algn="l" pos="2489040"/>
                      <a:tab algn="l" pos="2800440"/>
                      <a:tab algn="l" pos="3111480"/>
                      <a:tab algn="l" pos="3422520"/>
                      <a:tab algn="l" pos="3733920"/>
                      <a:tab algn="l" pos="4044960"/>
                      <a:tab algn="l" pos="4356000"/>
                      <a:tab algn="l" pos="4667400"/>
                      <a:tab algn="l" pos="4978440"/>
                      <a:tab algn="l" pos="5289480"/>
                      <a:tab algn="l" pos="5600880"/>
                      <a:tab algn="l" pos="5911920"/>
                      <a:tab algn="l" pos="622296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8" name="그룹 123"/>
              <p:cNvGrpSpPr/>
              <p:nvPr/>
            </p:nvGrpSpPr>
            <p:grpSpPr>
              <a:xfrm>
                <a:off x="334080" y="2300400"/>
                <a:ext cx="2428920" cy="1500120"/>
                <a:chOff x="334080" y="2300400"/>
                <a:chExt cx="2428920" cy="1500120"/>
              </a:xfrm>
            </p:grpSpPr>
            <p:grpSp>
              <p:nvGrpSpPr>
                <p:cNvPr id="1159" name="그룹 111"/>
                <p:cNvGrpSpPr/>
                <p:nvPr/>
              </p:nvGrpSpPr>
              <p:grpSpPr>
                <a:xfrm>
                  <a:off x="334080" y="2300400"/>
                  <a:ext cx="2428920" cy="1500120"/>
                  <a:chOff x="334080" y="2300400"/>
                  <a:chExt cx="2428920" cy="1500120"/>
                </a:xfrm>
              </p:grpSpPr>
              <p:grpSp>
                <p:nvGrpSpPr>
                  <p:cNvPr id="1160" name="그룹 39"/>
                  <p:cNvGrpSpPr/>
                  <p:nvPr/>
                </p:nvGrpSpPr>
                <p:grpSpPr>
                  <a:xfrm>
                    <a:off x="334080" y="2300400"/>
                    <a:ext cx="1820520" cy="812880"/>
                    <a:chOff x="334080" y="2300400"/>
                    <a:chExt cx="1820520" cy="812880"/>
                  </a:xfrm>
                </p:grpSpPr>
                <p:sp>
                  <p:nvSpPr>
                    <p:cNvPr id="1161" name="모서리가 둥근 직사각형 100"/>
                    <p:cNvSpPr/>
                    <p:nvPr/>
                  </p:nvSpPr>
                  <p:spPr>
                    <a:xfrm>
                      <a:off x="334080" y="2300400"/>
                      <a:ext cx="1820520" cy="812880"/>
                    </a:xfrm>
                    <a:prstGeom prst="roundRect">
                      <a:avLst>
                        <a:gd name="adj" fmla="val 10000"/>
                      </a:avLst>
                    </a:prstGeom>
                    <a:solidFill>
                      <a:srgbClr val="438086"/>
                    </a:solidFill>
                    <a:ln w="190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62" name="모서리가 둥근 직사각형 4"/>
                    <p:cNvSpPr/>
                    <p:nvPr/>
                  </p:nvSpPr>
                  <p:spPr>
                    <a:xfrm>
                      <a:off x="334080" y="2300400"/>
                      <a:ext cx="1820520" cy="4968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1280" rIns="71280" tIns="71280" bIns="3816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437"/>
                        </a:spcAft>
                        <a:tabLst>
                          <a:tab algn="l" pos="0"/>
                          <a:tab algn="l" pos="444600"/>
                          <a:tab algn="l" pos="888840"/>
                          <a:tab algn="l" pos="1333440"/>
                          <a:tab algn="l" pos="1778040"/>
                          <a:tab algn="l" pos="2222640"/>
                          <a:tab algn="l" pos="2666880"/>
                          <a:tab algn="l" pos="3111480"/>
                          <a:tab algn="l" pos="3556080"/>
                          <a:tab algn="l" pos="4000680"/>
                          <a:tab algn="l" pos="4444920"/>
                          <a:tab algn="l" pos="4889520"/>
                          <a:tab algn="l" pos="5334120"/>
                          <a:tab algn="l" pos="5778360"/>
                          <a:tab algn="l" pos="6222960"/>
                          <a:tab algn="l" pos="6667560"/>
                          <a:tab algn="l" pos="7112160"/>
                          <a:tab algn="l" pos="7556400"/>
                          <a:tab algn="l" pos="8001000"/>
                          <a:tab algn="l" pos="8445600"/>
                          <a:tab algn="l" pos="88898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63" name="모서리가 둥근 직사각형 98"/>
                  <p:cNvSpPr/>
                  <p:nvPr/>
                </p:nvSpPr>
                <p:spPr>
                  <a:xfrm>
                    <a:off x="405000" y="2602080"/>
                    <a:ext cx="2358000" cy="1198440"/>
                  </a:xfrm>
                  <a:prstGeom prst="roundRect">
                    <a:avLst>
                      <a:gd name="adj" fmla="val 10000"/>
                    </a:avLst>
                  </a:prstGeom>
                  <a:solidFill>
                    <a:srgbClr val="ffffff">
                      <a:alpha val="90000"/>
                    </a:srgbClr>
                  </a:solidFill>
                  <a:ln w="19080">
                    <a:solidFill>
                      <a:srgbClr val="43808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문제가 존재 한다는 사실을 정확하게 인지하는 단계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64" name="TextBox 115"/>
                <p:cNvSpPr/>
                <p:nvPr/>
              </p:nvSpPr>
              <p:spPr>
                <a:xfrm>
                  <a:off x="570960" y="2300400"/>
                  <a:ext cx="925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1800" spc="-1" strike="noStrike">
                      <a:solidFill>
                        <a:srgbClr val="ffffff"/>
                      </a:solidFill>
                      <a:latin typeface="휴먼모음T"/>
                      <a:ea typeface="휴먼모음T"/>
                    </a:rPr>
                    <a:t>문제의 인식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65" name="그룹 124"/>
              <p:cNvGrpSpPr/>
              <p:nvPr/>
            </p:nvGrpSpPr>
            <p:grpSpPr>
              <a:xfrm>
                <a:off x="3434760" y="2300400"/>
                <a:ext cx="2370960" cy="1500120"/>
                <a:chOff x="3434760" y="2300400"/>
                <a:chExt cx="2370960" cy="1500120"/>
              </a:xfrm>
            </p:grpSpPr>
            <p:grpSp>
              <p:nvGrpSpPr>
                <p:cNvPr id="1166" name="그룹 112"/>
                <p:cNvGrpSpPr/>
                <p:nvPr/>
              </p:nvGrpSpPr>
              <p:grpSpPr>
                <a:xfrm>
                  <a:off x="3434760" y="2300400"/>
                  <a:ext cx="2370960" cy="1500120"/>
                  <a:chOff x="3434760" y="2300400"/>
                  <a:chExt cx="2370960" cy="1500120"/>
                </a:xfrm>
              </p:grpSpPr>
              <p:grpSp>
                <p:nvGrpSpPr>
                  <p:cNvPr id="1167" name="그룹 42"/>
                  <p:cNvGrpSpPr/>
                  <p:nvPr/>
                </p:nvGrpSpPr>
                <p:grpSpPr>
                  <a:xfrm>
                    <a:off x="3434760" y="2300400"/>
                    <a:ext cx="1811520" cy="812520"/>
                    <a:chOff x="3434760" y="2300400"/>
                    <a:chExt cx="1811520" cy="812520"/>
                  </a:xfrm>
                </p:grpSpPr>
                <p:sp>
                  <p:nvSpPr>
                    <p:cNvPr id="1168" name="모서리가 둥근 직사각형 94"/>
                    <p:cNvSpPr/>
                    <p:nvPr/>
                  </p:nvSpPr>
                  <p:spPr>
                    <a:xfrm>
                      <a:off x="3434760" y="2300400"/>
                      <a:ext cx="1811520" cy="812520"/>
                    </a:xfrm>
                    <a:prstGeom prst="roundRect">
                      <a:avLst>
                        <a:gd name="adj" fmla="val 10000"/>
                      </a:avLst>
                    </a:prstGeom>
                    <a:solidFill>
                      <a:srgbClr val="456f86"/>
                    </a:solidFill>
                    <a:ln w="190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69" name="모서리가 둥근 직사각형 10"/>
                    <p:cNvSpPr/>
                    <p:nvPr/>
                  </p:nvSpPr>
                  <p:spPr>
                    <a:xfrm>
                      <a:off x="3434760" y="2300400"/>
                      <a:ext cx="1811520" cy="4968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1280" rIns="71280" tIns="71280" bIns="3816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437"/>
                        </a:spcAft>
                        <a:tabLst>
                          <a:tab algn="l" pos="0"/>
                          <a:tab algn="l" pos="444600"/>
                          <a:tab algn="l" pos="888840"/>
                          <a:tab algn="l" pos="1333440"/>
                          <a:tab algn="l" pos="1778040"/>
                          <a:tab algn="l" pos="2222640"/>
                          <a:tab algn="l" pos="2666880"/>
                          <a:tab algn="l" pos="3111480"/>
                          <a:tab algn="l" pos="3556080"/>
                          <a:tab algn="l" pos="4000680"/>
                          <a:tab algn="l" pos="4444920"/>
                          <a:tab algn="l" pos="4889520"/>
                          <a:tab algn="l" pos="5334120"/>
                          <a:tab algn="l" pos="5778360"/>
                          <a:tab algn="l" pos="6222960"/>
                          <a:tab algn="l" pos="6667560"/>
                          <a:tab algn="l" pos="7112160"/>
                          <a:tab algn="l" pos="7556400"/>
                          <a:tab algn="l" pos="8001000"/>
                          <a:tab algn="l" pos="8445600"/>
                          <a:tab algn="l" pos="88898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70" name="그룹 43"/>
                  <p:cNvGrpSpPr/>
                  <p:nvPr/>
                </p:nvGrpSpPr>
                <p:grpSpPr>
                  <a:xfrm>
                    <a:off x="3506040" y="2601720"/>
                    <a:ext cx="2299680" cy="1198800"/>
                    <a:chOff x="3506040" y="2601720"/>
                    <a:chExt cx="2299680" cy="1198800"/>
                  </a:xfrm>
                </p:grpSpPr>
                <p:sp>
                  <p:nvSpPr>
                    <p:cNvPr id="1171" name="모서리가 둥근 직사각형 92"/>
                    <p:cNvSpPr/>
                    <p:nvPr/>
                  </p:nvSpPr>
                  <p:spPr>
                    <a:xfrm>
                      <a:off x="3506040" y="2601720"/>
                      <a:ext cx="2261880" cy="1198800"/>
                    </a:xfrm>
                    <a:prstGeom prst="roundRect">
                      <a:avLst>
                        <a:gd name="adj" fmla="val 10000"/>
                      </a:avLst>
                    </a:prstGeom>
                    <a:solidFill>
                      <a:srgbClr val="ffffff">
                        <a:alpha val="90000"/>
                      </a:srgbClr>
                    </a:solidFill>
                    <a:ln w="19080">
                      <a:solidFill>
                        <a:srgbClr val="456f8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문제의 본질을 확인하고 문제해결의 제약요건들을 확인하는 단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2" name="모서리가 둥근 직사각형 12"/>
                    <p:cNvSpPr/>
                    <p:nvPr/>
                  </p:nvSpPr>
                  <p:spPr>
                    <a:xfrm>
                      <a:off x="3659040" y="2636640"/>
                      <a:ext cx="2146680" cy="1128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1280" rIns="71280" tIns="71280" bIns="71280" anchor="t">
                      <a:noAutofit/>
                    </a:bodyPr>
                    <a:p>
                      <a:pPr lvl="1" marL="57240" indent="-57240">
                        <a:lnSpc>
                          <a:spcPct val="90000"/>
                        </a:lnSpc>
                        <a:spcAft>
                          <a:spcPts val="187"/>
                        </a:spcAft>
                        <a:buClr>
                          <a:srgbClr val="000000"/>
                        </a:buClr>
                        <a:buFont typeface="휴먼모음T"/>
                        <a:buChar char="•"/>
                        <a:tabLst>
                          <a:tab algn="l" pos="444600"/>
                          <a:tab algn="l" pos="888840"/>
                          <a:tab algn="l" pos="1333440"/>
                          <a:tab algn="l" pos="1778040"/>
                          <a:tab algn="l" pos="2222640"/>
                          <a:tab algn="l" pos="2666880"/>
                          <a:tab algn="l" pos="3111480"/>
                          <a:tab algn="l" pos="3556080"/>
                          <a:tab algn="l" pos="4000680"/>
                          <a:tab algn="l" pos="4444920"/>
                          <a:tab algn="l" pos="4889520"/>
                          <a:tab algn="l" pos="5334120"/>
                          <a:tab algn="l" pos="5778360"/>
                          <a:tab algn="l" pos="6222960"/>
                          <a:tab algn="l" pos="6667560"/>
                          <a:tab algn="l" pos="7112160"/>
                          <a:tab algn="l" pos="7556400"/>
                          <a:tab algn="l" pos="8001000"/>
                          <a:tab algn="l" pos="8445600"/>
                          <a:tab algn="l" pos="88898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173" name="TextBox 117"/>
                <p:cNvSpPr/>
                <p:nvPr/>
              </p:nvSpPr>
              <p:spPr>
                <a:xfrm>
                  <a:off x="3671640" y="2300400"/>
                  <a:ext cx="925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1800" spc="-1" strike="noStrike">
                      <a:solidFill>
                        <a:srgbClr val="ffffff"/>
                      </a:solidFill>
                      <a:latin typeface="휴먼모음T"/>
                      <a:ea typeface="휴먼모음T"/>
                    </a:rPr>
                    <a:t>문제의 정의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74" name="그룹 125"/>
              <p:cNvGrpSpPr/>
              <p:nvPr/>
            </p:nvGrpSpPr>
            <p:grpSpPr>
              <a:xfrm>
                <a:off x="6477840" y="2300400"/>
                <a:ext cx="2333160" cy="1500120"/>
                <a:chOff x="6477840" y="2300400"/>
                <a:chExt cx="2333160" cy="1500120"/>
              </a:xfrm>
            </p:grpSpPr>
            <p:grpSp>
              <p:nvGrpSpPr>
                <p:cNvPr id="1175" name="그룹 109"/>
                <p:cNvGrpSpPr/>
                <p:nvPr/>
              </p:nvGrpSpPr>
              <p:grpSpPr>
                <a:xfrm>
                  <a:off x="6477840" y="2300400"/>
                  <a:ext cx="2333160" cy="1500120"/>
                  <a:chOff x="6477840" y="2300400"/>
                  <a:chExt cx="2333160" cy="1500120"/>
                </a:xfrm>
              </p:grpSpPr>
              <p:grpSp>
                <p:nvGrpSpPr>
                  <p:cNvPr id="1176" name="그룹 54"/>
                  <p:cNvGrpSpPr/>
                  <p:nvPr/>
                </p:nvGrpSpPr>
                <p:grpSpPr>
                  <a:xfrm>
                    <a:off x="6477840" y="2300400"/>
                    <a:ext cx="1811880" cy="812880"/>
                    <a:chOff x="6477840" y="2300400"/>
                    <a:chExt cx="1811880" cy="812880"/>
                  </a:xfrm>
                </p:grpSpPr>
                <p:sp>
                  <p:nvSpPr>
                    <p:cNvPr id="1177" name="모서리가 둥근 직사각형 88"/>
                    <p:cNvSpPr/>
                    <p:nvPr/>
                  </p:nvSpPr>
                  <p:spPr>
                    <a:xfrm>
                      <a:off x="6477840" y="2300400"/>
                      <a:ext cx="1811880" cy="812880"/>
                    </a:xfrm>
                    <a:prstGeom prst="roundRect">
                      <a:avLst>
                        <a:gd name="adj" fmla="val 10000"/>
                      </a:avLst>
                    </a:prstGeom>
                    <a:solidFill>
                      <a:srgbClr val="465f85"/>
                    </a:solidFill>
                    <a:ln w="190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8" name="모서리가 둥근 직사각형 16"/>
                    <p:cNvSpPr/>
                    <p:nvPr/>
                  </p:nvSpPr>
                  <p:spPr>
                    <a:xfrm>
                      <a:off x="6477840" y="2300400"/>
                      <a:ext cx="1811880" cy="4968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1280" rIns="71280" tIns="71280" bIns="3816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437"/>
                        </a:spcAft>
                        <a:tabLst>
                          <a:tab algn="l" pos="0"/>
                          <a:tab algn="l" pos="444600"/>
                          <a:tab algn="l" pos="888840"/>
                          <a:tab algn="l" pos="1333440"/>
                          <a:tab algn="l" pos="1778040"/>
                          <a:tab algn="l" pos="2222640"/>
                          <a:tab algn="l" pos="2666880"/>
                          <a:tab algn="l" pos="3111480"/>
                          <a:tab algn="l" pos="3556080"/>
                          <a:tab algn="l" pos="4000680"/>
                          <a:tab algn="l" pos="4444920"/>
                          <a:tab algn="l" pos="4889520"/>
                          <a:tab algn="l" pos="5334120"/>
                          <a:tab algn="l" pos="5778360"/>
                          <a:tab algn="l" pos="6222960"/>
                          <a:tab algn="l" pos="6667560"/>
                          <a:tab algn="l" pos="7112160"/>
                          <a:tab algn="l" pos="7556400"/>
                          <a:tab algn="l" pos="8001000"/>
                          <a:tab algn="l" pos="8445600"/>
                          <a:tab algn="l" pos="88898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79" name="모서리가 둥근 직사각형 86"/>
                  <p:cNvSpPr/>
                  <p:nvPr/>
                </p:nvSpPr>
                <p:spPr>
                  <a:xfrm>
                    <a:off x="6537240" y="2602080"/>
                    <a:ext cx="2273760" cy="1198440"/>
                  </a:xfrm>
                  <a:prstGeom prst="roundRect">
                    <a:avLst>
                      <a:gd name="adj" fmla="val 10000"/>
                    </a:avLst>
                  </a:prstGeom>
                  <a:solidFill>
                    <a:srgbClr val="ffffff">
                      <a:alpha val="90000"/>
                    </a:srgbClr>
                  </a:solidFill>
                  <a:ln w="19080">
                    <a:solidFill>
                      <a:srgbClr val="465f8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문제를 다른 말로 진술하거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,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과거 문제와 관련 짓거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,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시각적으로 표현하는 단계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80" name="TextBox 118"/>
                <p:cNvSpPr/>
                <p:nvPr/>
              </p:nvSpPr>
              <p:spPr>
                <a:xfrm>
                  <a:off x="6714720" y="2300400"/>
                  <a:ext cx="925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1800" spc="-1" strike="noStrike">
                      <a:solidFill>
                        <a:srgbClr val="ffffff"/>
                      </a:solidFill>
                      <a:latin typeface="휴먼모음T"/>
                      <a:ea typeface="휴먼모음T"/>
                    </a:rPr>
                    <a:t>문제의 표상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1" name="그룹 126"/>
            <p:cNvGrpSpPr/>
            <p:nvPr/>
          </p:nvGrpSpPr>
          <p:grpSpPr>
            <a:xfrm>
              <a:off x="6500880" y="4449960"/>
              <a:ext cx="2333520" cy="1500120"/>
              <a:chOff x="6500880" y="4449960"/>
              <a:chExt cx="2333520" cy="1500120"/>
            </a:xfrm>
          </p:grpSpPr>
          <p:grpSp>
            <p:nvGrpSpPr>
              <p:cNvPr id="1182" name="그룹 108"/>
              <p:cNvGrpSpPr/>
              <p:nvPr/>
            </p:nvGrpSpPr>
            <p:grpSpPr>
              <a:xfrm>
                <a:off x="6500880" y="4449960"/>
                <a:ext cx="2333520" cy="1500120"/>
                <a:chOff x="6500880" y="4449960"/>
                <a:chExt cx="2333520" cy="1500120"/>
              </a:xfrm>
            </p:grpSpPr>
            <p:grpSp>
              <p:nvGrpSpPr>
                <p:cNvPr id="1183" name="그룹 57"/>
                <p:cNvGrpSpPr/>
                <p:nvPr/>
              </p:nvGrpSpPr>
              <p:grpSpPr>
                <a:xfrm>
                  <a:off x="6500880" y="4449960"/>
                  <a:ext cx="1811880" cy="812880"/>
                  <a:chOff x="6500880" y="4449960"/>
                  <a:chExt cx="1811880" cy="812880"/>
                </a:xfrm>
              </p:grpSpPr>
              <p:sp>
                <p:nvSpPr>
                  <p:cNvPr id="1184" name="모서리가 둥근 직사각형 82"/>
                  <p:cNvSpPr/>
                  <p:nvPr/>
                </p:nvSpPr>
                <p:spPr>
                  <a:xfrm>
                    <a:off x="6500880" y="4449960"/>
                    <a:ext cx="1811880" cy="812880"/>
                  </a:xfrm>
                  <a:prstGeom prst="roundRect">
                    <a:avLst>
                      <a:gd name="adj" fmla="val 10000"/>
                    </a:avLst>
                  </a:prstGeom>
                  <a:solidFill>
                    <a:srgbClr val="485085"/>
                  </a:solidFill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5" name="모서리가 둥근 직사각형 22"/>
                  <p:cNvSpPr/>
                  <p:nvPr/>
                </p:nvSpPr>
                <p:spPr>
                  <a:xfrm>
                    <a:off x="6500880" y="4449960"/>
                    <a:ext cx="1811880" cy="496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1280" rIns="71280" tIns="71280" bIns="38160" anchor="t">
                    <a:noAutofit/>
                  </a:bodyPr>
                  <a:p>
                    <a:pPr>
                      <a:lnSpc>
                        <a:spcPct val="90000"/>
                      </a:lnSpc>
                      <a:spcAft>
                        <a:spcPts val="437"/>
                      </a:spcAft>
                      <a:tabLst>
                        <a:tab algn="l" pos="0"/>
                        <a:tab algn="l" pos="444600"/>
                        <a:tab algn="l" pos="888840"/>
                        <a:tab algn="l" pos="1333440"/>
                        <a:tab algn="l" pos="1778040"/>
                        <a:tab algn="l" pos="2222640"/>
                        <a:tab algn="l" pos="2666880"/>
                        <a:tab algn="l" pos="3111480"/>
                        <a:tab algn="l" pos="3556080"/>
                        <a:tab algn="l" pos="4000680"/>
                        <a:tab algn="l" pos="4444920"/>
                        <a:tab algn="l" pos="4889520"/>
                        <a:tab algn="l" pos="5334120"/>
                        <a:tab algn="l" pos="5778360"/>
                        <a:tab algn="l" pos="6222960"/>
                        <a:tab algn="l" pos="6667560"/>
                        <a:tab algn="l" pos="7112160"/>
                        <a:tab algn="l" pos="7556400"/>
                        <a:tab algn="l" pos="8001000"/>
                        <a:tab algn="l" pos="8445600"/>
                        <a:tab algn="l" pos="88898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86" name="모서리가 둥근 직사각형 80"/>
                <p:cNvSpPr/>
                <p:nvPr/>
              </p:nvSpPr>
              <p:spPr>
                <a:xfrm>
                  <a:off x="6584400" y="4751280"/>
                  <a:ext cx="2250000" cy="1198800"/>
                </a:xfrm>
                <a:prstGeom prst="roundRect">
                  <a:avLst>
                    <a:gd name="adj" fmla="val 10000"/>
                  </a:avLst>
                </a:prstGeom>
                <a:solidFill>
                  <a:srgbClr val="ffffff">
                    <a:alpha val="90000"/>
                  </a:srgbClr>
                </a:solidFill>
                <a:ln w="19080">
                  <a:solidFill>
                    <a:srgbClr val="48508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문제해결전략들을 생성한 후 가장 적절한 전략을 선택 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 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실행하는 단계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87" name="TextBox 119"/>
              <p:cNvSpPr/>
              <p:nvPr/>
            </p:nvSpPr>
            <p:spPr>
              <a:xfrm>
                <a:off x="6636240" y="4449960"/>
                <a:ext cx="1535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문제해결전략의 선택</a:t>
                </a:r>
                <a:r>
                  <a:rPr b="1" lang="en-US" sz="14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1" lang="ko-KR" sz="14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실행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8" name="그룹 127"/>
            <p:cNvGrpSpPr/>
            <p:nvPr/>
          </p:nvGrpSpPr>
          <p:grpSpPr>
            <a:xfrm>
              <a:off x="3378240" y="4449960"/>
              <a:ext cx="2333160" cy="1500480"/>
              <a:chOff x="3378240" y="4449960"/>
              <a:chExt cx="2333160" cy="1500480"/>
            </a:xfrm>
          </p:grpSpPr>
          <p:grpSp>
            <p:nvGrpSpPr>
              <p:cNvPr id="1189" name="그룹 113"/>
              <p:cNvGrpSpPr/>
              <p:nvPr/>
            </p:nvGrpSpPr>
            <p:grpSpPr>
              <a:xfrm>
                <a:off x="3378240" y="4449960"/>
                <a:ext cx="2333160" cy="1500480"/>
                <a:chOff x="3378240" y="4449960"/>
                <a:chExt cx="2333160" cy="1500480"/>
              </a:xfrm>
            </p:grpSpPr>
            <p:grpSp>
              <p:nvGrpSpPr>
                <p:cNvPr id="1190" name="그룹 60"/>
                <p:cNvGrpSpPr/>
                <p:nvPr/>
              </p:nvGrpSpPr>
              <p:grpSpPr>
                <a:xfrm>
                  <a:off x="3378240" y="4449960"/>
                  <a:ext cx="1811160" cy="812880"/>
                  <a:chOff x="3378240" y="4449960"/>
                  <a:chExt cx="1811160" cy="812880"/>
                </a:xfrm>
              </p:grpSpPr>
              <p:sp>
                <p:nvSpPr>
                  <p:cNvPr id="1191" name="모서리가 둥근 직사각형 76"/>
                  <p:cNvSpPr/>
                  <p:nvPr/>
                </p:nvSpPr>
                <p:spPr>
                  <a:xfrm>
                    <a:off x="3378240" y="4449960"/>
                    <a:ext cx="1811160" cy="812880"/>
                  </a:xfrm>
                  <a:prstGeom prst="roundRect">
                    <a:avLst>
                      <a:gd name="adj" fmla="val 10000"/>
                    </a:avLst>
                  </a:prstGeom>
                  <a:solidFill>
                    <a:srgbClr val="514a85"/>
                  </a:solidFill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2" name="모서리가 둥근 직사각형 28"/>
                  <p:cNvSpPr/>
                  <p:nvPr/>
                </p:nvSpPr>
                <p:spPr>
                  <a:xfrm>
                    <a:off x="3378240" y="4449960"/>
                    <a:ext cx="1811160" cy="496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1280" rIns="71280" tIns="71280" bIns="38160" anchor="t">
                    <a:noAutofit/>
                  </a:bodyPr>
                  <a:p>
                    <a:pPr>
                      <a:lnSpc>
                        <a:spcPct val="90000"/>
                      </a:lnSpc>
                      <a:spcAft>
                        <a:spcPts val="437"/>
                      </a:spcAft>
                      <a:tabLst>
                        <a:tab algn="l" pos="0"/>
                        <a:tab algn="l" pos="444600"/>
                        <a:tab algn="l" pos="888840"/>
                        <a:tab algn="l" pos="1333440"/>
                        <a:tab algn="l" pos="1778040"/>
                        <a:tab algn="l" pos="2222640"/>
                        <a:tab algn="l" pos="2666880"/>
                        <a:tab algn="l" pos="3111480"/>
                        <a:tab algn="l" pos="3556080"/>
                        <a:tab algn="l" pos="4000680"/>
                        <a:tab algn="l" pos="4444920"/>
                        <a:tab algn="l" pos="4889520"/>
                        <a:tab algn="l" pos="5334120"/>
                        <a:tab algn="l" pos="5778360"/>
                        <a:tab algn="l" pos="6222960"/>
                        <a:tab algn="l" pos="6667560"/>
                        <a:tab algn="l" pos="7112160"/>
                        <a:tab algn="l" pos="7556400"/>
                        <a:tab algn="l" pos="8001000"/>
                        <a:tab algn="l" pos="8445600"/>
                        <a:tab algn="l" pos="88898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3" name="모서리가 둥근 직사각형 74"/>
                <p:cNvSpPr/>
                <p:nvPr/>
              </p:nvSpPr>
              <p:spPr>
                <a:xfrm>
                  <a:off x="3449520" y="4751640"/>
                  <a:ext cx="2261880" cy="1198800"/>
                </a:xfrm>
                <a:prstGeom prst="roundRect">
                  <a:avLst>
                    <a:gd name="adj" fmla="val 10000"/>
                  </a:avLst>
                </a:prstGeom>
                <a:solidFill>
                  <a:srgbClr val="ffffff">
                    <a:alpha val="90000"/>
                  </a:srgbClr>
                </a:solidFill>
                <a:ln w="19080">
                  <a:solidFill>
                    <a:srgbClr val="514a8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문제를 해결하는 도중 문제가 제대로 해결되고 있는지 수시로 점검하는 단계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94" name="TextBox 120"/>
              <p:cNvSpPr/>
              <p:nvPr/>
            </p:nvSpPr>
            <p:spPr>
              <a:xfrm>
                <a:off x="3552120" y="4449960"/>
                <a:ext cx="1474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문제해결과정의 점검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95" name="그룹 122"/>
            <p:cNvGrpSpPr/>
            <p:nvPr/>
          </p:nvGrpSpPr>
          <p:grpSpPr>
            <a:xfrm>
              <a:off x="298440" y="4443480"/>
              <a:ext cx="2332800" cy="1512720"/>
              <a:chOff x="298440" y="4443480"/>
              <a:chExt cx="2332800" cy="1512720"/>
            </a:xfrm>
          </p:grpSpPr>
          <p:grpSp>
            <p:nvGrpSpPr>
              <p:cNvPr id="1196" name="그룹 114"/>
              <p:cNvGrpSpPr/>
              <p:nvPr/>
            </p:nvGrpSpPr>
            <p:grpSpPr>
              <a:xfrm>
                <a:off x="298440" y="4455720"/>
                <a:ext cx="2332800" cy="1500480"/>
                <a:chOff x="298440" y="4455720"/>
                <a:chExt cx="2332800" cy="1500480"/>
              </a:xfrm>
            </p:grpSpPr>
            <p:grpSp>
              <p:nvGrpSpPr>
                <p:cNvPr id="1197" name="그룹 63"/>
                <p:cNvGrpSpPr/>
                <p:nvPr/>
              </p:nvGrpSpPr>
              <p:grpSpPr>
                <a:xfrm>
                  <a:off x="298440" y="4455720"/>
                  <a:ext cx="1810800" cy="812880"/>
                  <a:chOff x="298440" y="4455720"/>
                  <a:chExt cx="1810800" cy="812880"/>
                </a:xfrm>
              </p:grpSpPr>
              <p:sp>
                <p:nvSpPr>
                  <p:cNvPr id="1198" name="모서리가 둥근 직사각형 69"/>
                  <p:cNvSpPr/>
                  <p:nvPr/>
                </p:nvSpPr>
                <p:spPr>
                  <a:xfrm>
                    <a:off x="298440" y="4455720"/>
                    <a:ext cx="1810800" cy="812880"/>
                  </a:xfrm>
                  <a:prstGeom prst="roundRect">
                    <a:avLst>
                      <a:gd name="adj" fmla="val 10000"/>
                    </a:avLst>
                  </a:prstGeom>
                  <a:solidFill>
                    <a:srgbClr val="624b85"/>
                  </a:solidFill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9" name="모서리가 둥근 직사각형 34"/>
                  <p:cNvSpPr/>
                  <p:nvPr/>
                </p:nvSpPr>
                <p:spPr>
                  <a:xfrm>
                    <a:off x="298440" y="4455720"/>
                    <a:ext cx="1810800" cy="496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1280" rIns="71280" tIns="71280" bIns="38160" anchor="t">
                    <a:noAutofit/>
                  </a:bodyPr>
                  <a:p>
                    <a:pPr>
                      <a:lnSpc>
                        <a:spcPct val="90000"/>
                      </a:lnSpc>
                      <a:spcAft>
                        <a:spcPts val="437"/>
                      </a:spcAft>
                      <a:tabLst>
                        <a:tab algn="l" pos="0"/>
                        <a:tab algn="l" pos="444600"/>
                        <a:tab algn="l" pos="888840"/>
                        <a:tab algn="l" pos="1333440"/>
                        <a:tab algn="l" pos="1778040"/>
                        <a:tab algn="l" pos="2222640"/>
                        <a:tab algn="l" pos="2666880"/>
                        <a:tab algn="l" pos="3111480"/>
                        <a:tab algn="l" pos="3556080"/>
                        <a:tab algn="l" pos="4000680"/>
                        <a:tab algn="l" pos="4444920"/>
                        <a:tab algn="l" pos="4889520"/>
                        <a:tab algn="l" pos="5334120"/>
                        <a:tab algn="l" pos="5778360"/>
                        <a:tab algn="l" pos="6222960"/>
                        <a:tab algn="l" pos="6667560"/>
                        <a:tab algn="l" pos="7112160"/>
                        <a:tab algn="l" pos="7556400"/>
                        <a:tab algn="l" pos="8001000"/>
                        <a:tab algn="l" pos="8445600"/>
                        <a:tab algn="l" pos="88898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00" name="모서리가 둥근 직사각형 67"/>
                <p:cNvSpPr/>
                <p:nvPr/>
              </p:nvSpPr>
              <p:spPr>
                <a:xfrm>
                  <a:off x="369720" y="4757400"/>
                  <a:ext cx="2261520" cy="1198800"/>
                </a:xfrm>
                <a:prstGeom prst="roundRect">
                  <a:avLst>
                    <a:gd name="adj" fmla="val 10000"/>
                  </a:avLst>
                </a:prstGeom>
                <a:solidFill>
                  <a:srgbClr val="ffffff">
                    <a:alpha val="90000"/>
                  </a:srgbClr>
                </a:solidFill>
                <a:ln w="19080">
                  <a:solidFill>
                    <a:srgbClr val="624b8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문제를 해결한 다음 해결책의 적절성을 평가하는 단계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01" name="TextBox 121"/>
              <p:cNvSpPr/>
              <p:nvPr/>
            </p:nvSpPr>
            <p:spPr>
              <a:xfrm>
                <a:off x="497520" y="4443480"/>
                <a:ext cx="1200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문제해결의 평가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02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20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04" name="직사각형 13"/>
              <p:cNvSpPr/>
              <p:nvPr/>
            </p:nvSpPr>
            <p:spPr>
              <a:xfrm>
                <a:off x="1436760" y="138564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문제해결의 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0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0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1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11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2" name="TextBox 9" descr=""/>
          <p:cNvPicPr/>
          <p:nvPr/>
        </p:nvPicPr>
        <p:blipFill>
          <a:blip r:embed="rId1"/>
          <a:stretch/>
        </p:blipFill>
        <p:spPr>
          <a:xfrm>
            <a:off x="6576840" y="506520"/>
            <a:ext cx="232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13" name="그룹 28"/>
          <p:cNvGrpSpPr/>
          <p:nvPr/>
        </p:nvGrpSpPr>
        <p:grpSpPr>
          <a:xfrm>
            <a:off x="4710240" y="2243160"/>
            <a:ext cx="4362480" cy="4186080"/>
            <a:chOff x="4710240" y="2243160"/>
            <a:chExt cx="4362480" cy="4186080"/>
          </a:xfrm>
        </p:grpSpPr>
        <p:sp>
          <p:nvSpPr>
            <p:cNvPr id="1214" name="모서리가 둥근 직사각형 21"/>
            <p:cNvSpPr/>
            <p:nvPr/>
          </p:nvSpPr>
          <p:spPr>
            <a:xfrm>
              <a:off x="4734000" y="2243160"/>
              <a:ext cx="4105440" cy="4186080"/>
            </a:xfrm>
            <a:custGeom>
              <a:avLst/>
              <a:gdLst>
                <a:gd name="textAreaLeft" fmla="*/ 81000 w 4105440"/>
                <a:gd name="textAreaRight" fmla="*/ 4024440 w 4105440"/>
                <a:gd name="textAreaTop" fmla="*/ 81000 h 4186080"/>
                <a:gd name="textAreaBottom" fmla="*/ 4105080 h 4186080"/>
              </a:gdLst>
              <a:ahLst/>
              <a:rect l="textAreaLeft" t="textAreaTop" r="textAreaRight" b="textAreaBottom"/>
              <a:pathLst>
                <a:path w="21600" h="22024">
                  <a:moveTo>
                    <a:pt x="1458" y="0"/>
                  </a:moveTo>
                  <a:arcTo wR="1458" hR="1458" stAng="16200000" swAng="-5400000"/>
                  <a:lnTo>
                    <a:pt x="0" y="20566"/>
                  </a:lnTo>
                  <a:arcTo wR="1458" hR="1458" stAng="10800000" swAng="-5400000"/>
                  <a:lnTo>
                    <a:pt x="20142" y="22024"/>
                  </a:lnTo>
                  <a:arcTo wR="1458" hR="1458" stAng="5400000" swAng="-5400000"/>
                  <a:lnTo>
                    <a:pt x="21600" y="1458"/>
                  </a:lnTo>
                  <a:arcTo wR="1458" hR="1458" stAng="0" swAng="-5400000"/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2240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직사각형 22"/>
            <p:cNvSpPr/>
            <p:nvPr/>
          </p:nvSpPr>
          <p:spPr>
            <a:xfrm>
              <a:off x="4734000" y="2671560"/>
              <a:ext cx="4105440" cy="500040"/>
            </a:xfrm>
            <a:prstGeom prst="rect">
              <a:avLst/>
            </a:prstGeom>
            <a:solidFill>
              <a:srgbClr val="2240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직사각형 23"/>
            <p:cNvSpPr/>
            <p:nvPr/>
          </p:nvSpPr>
          <p:spPr>
            <a:xfrm>
              <a:off x="4710240" y="3214440"/>
              <a:ext cx="4362480" cy="31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698"/>
                </a:lnSpc>
                <a:spcAft>
                  <a:spcPts val="601"/>
                </a:spcAft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고착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과거 성공했던 전략에 집착한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나머지 문제를 새로운 관점에서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파악하지 못하는 상태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601"/>
                </a:spcAft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신태세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과거에 사용했던 방식으로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를 해결하려는 성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601"/>
                </a:spcAft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신념고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순된 증거에도 불구하고 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신념을 고집하는 경향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확증편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평소 신념이나 아이디어에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일치하는 정보만 탐색하는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경향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TextBox 149"/>
            <p:cNvSpPr/>
            <p:nvPr/>
          </p:nvSpPr>
          <p:spPr>
            <a:xfrm>
              <a:off x="5315760" y="2742840"/>
              <a:ext cx="29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문제해결을 방해하는 요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8" name="그룹 27"/>
          <p:cNvGrpSpPr/>
          <p:nvPr/>
        </p:nvGrpSpPr>
        <p:grpSpPr>
          <a:xfrm>
            <a:off x="357120" y="2243160"/>
            <a:ext cx="4124520" cy="4186080"/>
            <a:chOff x="357120" y="2243160"/>
            <a:chExt cx="4124520" cy="4186080"/>
          </a:xfrm>
        </p:grpSpPr>
        <p:sp>
          <p:nvSpPr>
            <p:cNvPr id="1219" name="모서리가 둥근 직사각형 17"/>
            <p:cNvSpPr/>
            <p:nvPr/>
          </p:nvSpPr>
          <p:spPr>
            <a:xfrm>
              <a:off x="375840" y="2243160"/>
              <a:ext cx="4105800" cy="4186080"/>
            </a:xfrm>
            <a:custGeom>
              <a:avLst/>
              <a:gdLst>
                <a:gd name="textAreaLeft" fmla="*/ 81000 w 4105800"/>
                <a:gd name="textAreaRight" fmla="*/ 4024800 w 4105800"/>
                <a:gd name="textAreaTop" fmla="*/ 81000 h 4186080"/>
                <a:gd name="textAreaBottom" fmla="*/ 4105080 h 4186080"/>
              </a:gdLst>
              <a:ahLst/>
              <a:rect l="textAreaLeft" t="textAreaTop" r="textAreaRight" b="textAreaBottom"/>
              <a:pathLst>
                <a:path w="21600" h="22022">
                  <a:moveTo>
                    <a:pt x="1458" y="0"/>
                  </a:moveTo>
                  <a:arcTo wR="1458" hR="1458" stAng="16200000" swAng="-5400000"/>
                  <a:lnTo>
                    <a:pt x="0" y="20564"/>
                  </a:lnTo>
                  <a:arcTo wR="1458" hR="1458" stAng="10800000" swAng="-5400000"/>
                  <a:lnTo>
                    <a:pt x="20142" y="22022"/>
                  </a:lnTo>
                  <a:arcTo wR="1458" hR="1458" stAng="5400000" swAng="-5400000"/>
                  <a:lnTo>
                    <a:pt x="21600" y="1458"/>
                  </a:lnTo>
                  <a:arcTo wR="1458" hR="1458" stAng="0" swAng="-5400000"/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2240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직사각형 18"/>
            <p:cNvSpPr/>
            <p:nvPr/>
          </p:nvSpPr>
          <p:spPr>
            <a:xfrm>
              <a:off x="375840" y="2671560"/>
              <a:ext cx="4105800" cy="500040"/>
            </a:xfrm>
            <a:prstGeom prst="rect">
              <a:avLst/>
            </a:prstGeom>
            <a:solidFill>
              <a:srgbClr val="2240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직사각형 19"/>
            <p:cNvSpPr/>
            <p:nvPr/>
          </p:nvSpPr>
          <p:spPr>
            <a:xfrm>
              <a:off x="357120" y="3510000"/>
              <a:ext cx="4124520" cy="229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698"/>
                </a:lnSpc>
                <a:spcAft>
                  <a:spcPts val="1199"/>
                </a:spcAft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통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를 해결하는데 필요한 정보를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식하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보를 비교하여 관계를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파악하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보를 결합하는 능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부화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을 잠시 제쳐 두고 다른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활동을 하면서 잠재의식수준에서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을 모색하는 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TextBox 149"/>
            <p:cNvSpPr/>
            <p:nvPr/>
          </p:nvSpPr>
          <p:spPr>
            <a:xfrm>
              <a:off x="958680" y="2742840"/>
              <a:ext cx="2940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문제해결을 촉진하는 요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3" name="그룹 17"/>
          <p:cNvGrpSpPr/>
          <p:nvPr/>
        </p:nvGrpSpPr>
        <p:grpSpPr>
          <a:xfrm>
            <a:off x="2889360" y="1928880"/>
            <a:ext cx="3483000" cy="552240"/>
            <a:chOff x="2889360" y="1928880"/>
            <a:chExt cx="3483000" cy="552240"/>
          </a:xfrm>
        </p:grpSpPr>
        <p:sp>
          <p:nvSpPr>
            <p:cNvPr id="1224" name="AutoShape 65"/>
            <p:cNvSpPr/>
            <p:nvPr/>
          </p:nvSpPr>
          <p:spPr>
            <a:xfrm>
              <a:off x="2889360" y="1928880"/>
              <a:ext cx="3483000" cy="5522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69390a"/>
                </a:gs>
              </a:gsLst>
              <a:lin ang="5400000"/>
            </a:gradFill>
            <a:ln w="6480">
              <a:solidFill>
                <a:srgbClr val="6939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25" name="AutoShape 66"/>
            <p:cNvGrpSpPr/>
            <p:nvPr/>
          </p:nvGrpSpPr>
          <p:grpSpPr>
            <a:xfrm>
              <a:off x="3072240" y="1962720"/>
              <a:ext cx="3121200" cy="481680"/>
              <a:chOff x="3072240" y="1962720"/>
              <a:chExt cx="3121200" cy="481680"/>
            </a:xfrm>
          </p:grpSpPr>
          <p:pic>
            <p:nvPicPr>
              <p:cNvPr id="1226" name="AutoShape 66" descr=""/>
              <p:cNvPicPr/>
              <p:nvPr/>
            </p:nvPicPr>
            <p:blipFill>
              <a:blip r:embed="rId2"/>
              <a:stretch/>
            </p:blipFill>
            <p:spPr>
              <a:xfrm>
                <a:off x="3072240" y="1962720"/>
                <a:ext cx="3121200" cy="481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27" name=""/>
              <p:cNvSpPr/>
              <p:nvPr/>
            </p:nvSpPr>
            <p:spPr>
              <a:xfrm>
                <a:off x="3143880" y="2039760"/>
                <a:ext cx="297360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228" name="TextBox 16" descr=""/>
            <p:cNvPicPr/>
            <p:nvPr/>
          </p:nvPicPr>
          <p:blipFill>
            <a:blip r:embed="rId3"/>
            <a:stretch/>
          </p:blipFill>
          <p:spPr>
            <a:xfrm>
              <a:off x="3108960" y="1981080"/>
              <a:ext cx="3035880" cy="396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29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23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31" name="직사각형 13"/>
              <p:cNvSpPr/>
              <p:nvPr/>
            </p:nvSpPr>
            <p:spPr>
              <a:xfrm>
                <a:off x="1733760" y="1385640"/>
                <a:ext cx="2206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문제해결에 영향을 주는 요인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3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3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3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36" name="Freeform 5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3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38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1" name="그룹 37"/>
          <p:cNvGrpSpPr/>
          <p:nvPr/>
        </p:nvGrpSpPr>
        <p:grpSpPr>
          <a:xfrm>
            <a:off x="357120" y="3429000"/>
            <a:ext cx="8501040" cy="3197160"/>
            <a:chOff x="357120" y="3429000"/>
            <a:chExt cx="8501040" cy="3197160"/>
          </a:xfrm>
        </p:grpSpPr>
        <p:grpSp>
          <p:nvGrpSpPr>
            <p:cNvPr id="782" name="그룹 91"/>
            <p:cNvGrpSpPr/>
            <p:nvPr/>
          </p:nvGrpSpPr>
          <p:grpSpPr>
            <a:xfrm>
              <a:off x="357120" y="3429000"/>
              <a:ext cx="8501040" cy="3197160"/>
              <a:chOff x="357120" y="3429000"/>
              <a:chExt cx="8501040" cy="3197160"/>
            </a:xfrm>
          </p:grpSpPr>
          <p:pic>
            <p:nvPicPr>
              <p:cNvPr id="783" name="Picture 5" descr="233"/>
              <p:cNvPicPr/>
              <p:nvPr/>
            </p:nvPicPr>
            <p:blipFill>
              <a:blip r:embed="rId1"/>
              <a:srcRect l="0" t="0" r="24313" b="0"/>
              <a:stretch/>
            </p:blipFill>
            <p:spPr>
              <a:xfrm>
                <a:off x="357120" y="3429000"/>
                <a:ext cx="8501040" cy="31971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784" name="직사각형 26"/>
              <p:cNvSpPr/>
              <p:nvPr/>
            </p:nvSpPr>
            <p:spPr>
              <a:xfrm>
                <a:off x="1357200" y="3608280"/>
                <a:ext cx="7500960" cy="349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5" name="그룹 91"/>
            <p:cNvGrpSpPr/>
            <p:nvPr/>
          </p:nvGrpSpPr>
          <p:grpSpPr>
            <a:xfrm>
              <a:off x="859320" y="3746160"/>
              <a:ext cx="2507760" cy="551160"/>
              <a:chOff x="859320" y="3746160"/>
              <a:chExt cx="2507760" cy="551160"/>
            </a:xfrm>
          </p:grpSpPr>
          <p:grpSp>
            <p:nvGrpSpPr>
              <p:cNvPr id="786" name="그룹 34"/>
              <p:cNvGrpSpPr/>
              <p:nvPr/>
            </p:nvGrpSpPr>
            <p:grpSpPr>
              <a:xfrm>
                <a:off x="859320" y="3873240"/>
                <a:ext cx="354960" cy="337320"/>
                <a:chOff x="859320" y="3873240"/>
                <a:chExt cx="354960" cy="337320"/>
              </a:xfrm>
            </p:grpSpPr>
            <p:pic>
              <p:nvPicPr>
                <p:cNvPr id="787" name="Picture 177" descr="bull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59320" y="3906720"/>
                  <a:ext cx="354960" cy="265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88" name="TextBox 36"/>
                <p:cNvSpPr/>
                <p:nvPr/>
              </p:nvSpPr>
              <p:spPr>
                <a:xfrm>
                  <a:off x="859320" y="3873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89" name="직사각형 22"/>
              <p:cNvSpPr/>
              <p:nvPr/>
            </p:nvSpPr>
            <p:spPr>
              <a:xfrm>
                <a:off x="1618200" y="3746160"/>
                <a:ext cx="174888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적 전이와 부적 전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90" name="그룹 142"/>
          <p:cNvGrpSpPr/>
          <p:nvPr/>
        </p:nvGrpSpPr>
        <p:grpSpPr>
          <a:xfrm>
            <a:off x="993960" y="4357800"/>
            <a:ext cx="7183800" cy="916920"/>
            <a:chOff x="993960" y="4357800"/>
            <a:chExt cx="7183800" cy="916920"/>
          </a:xfrm>
        </p:grpSpPr>
        <p:grpSp>
          <p:nvGrpSpPr>
            <p:cNvPr id="791" name="그룹 97"/>
            <p:cNvGrpSpPr/>
            <p:nvPr/>
          </p:nvGrpSpPr>
          <p:grpSpPr>
            <a:xfrm>
              <a:off x="993960" y="4357800"/>
              <a:ext cx="295200" cy="337320"/>
              <a:chOff x="993960" y="4357800"/>
              <a:chExt cx="295200" cy="337320"/>
            </a:xfrm>
          </p:grpSpPr>
          <p:pic>
            <p:nvPicPr>
              <p:cNvPr id="792" name="Picture 177" descr="bull"/>
              <p:cNvPicPr/>
              <p:nvPr/>
            </p:nvPicPr>
            <p:blipFill>
              <a:blip r:embed="rId3"/>
              <a:stretch/>
            </p:blipFill>
            <p:spPr>
              <a:xfrm>
                <a:off x="1000080" y="4442400"/>
                <a:ext cx="284040" cy="221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3" name="TextBox 146"/>
              <p:cNvSpPr/>
              <p:nvPr/>
            </p:nvSpPr>
            <p:spPr>
              <a:xfrm>
                <a:off x="993960" y="4357800"/>
                <a:ext cx="295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4" name="직사각형 34"/>
            <p:cNvSpPr/>
            <p:nvPr/>
          </p:nvSpPr>
          <p:spPr>
            <a:xfrm>
              <a:off x="1857960" y="4357800"/>
              <a:ext cx="63198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적 전이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positive transfer) 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선행학습이 후속학습을 촉진하는 현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예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교학습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95" name="TextBox 12" descr=""/>
          <p:cNvPicPr/>
          <p:nvPr/>
        </p:nvPicPr>
        <p:blipFill>
          <a:blip r:embed="rId4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796" name="그룹 35"/>
          <p:cNvGrpSpPr/>
          <p:nvPr/>
        </p:nvGrpSpPr>
        <p:grpSpPr>
          <a:xfrm>
            <a:off x="642960" y="3070080"/>
            <a:ext cx="8429760" cy="430200"/>
            <a:chOff x="642960" y="3070080"/>
            <a:chExt cx="8429760" cy="430200"/>
          </a:xfrm>
        </p:grpSpPr>
        <p:grpSp>
          <p:nvGrpSpPr>
            <p:cNvPr id="797" name="그룹 48"/>
            <p:cNvGrpSpPr/>
            <p:nvPr/>
          </p:nvGrpSpPr>
          <p:grpSpPr>
            <a:xfrm>
              <a:off x="642960" y="3098520"/>
              <a:ext cx="8429760" cy="401760"/>
              <a:chOff x="642960" y="3098520"/>
              <a:chExt cx="8429760" cy="401760"/>
            </a:xfrm>
          </p:grpSpPr>
          <p:sp>
            <p:nvSpPr>
              <p:cNvPr id="798" name="직사각형 13"/>
              <p:cNvSpPr/>
              <p:nvPr/>
            </p:nvSpPr>
            <p:spPr>
              <a:xfrm>
                <a:off x="1295640" y="309852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" name="직선 연결선 18"/>
              <p:cNvSpPr/>
              <p:nvPr/>
            </p:nvSpPr>
            <p:spPr>
              <a:xfrm>
                <a:off x="642960" y="349884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0" name="그룹 49"/>
            <p:cNvGrpSpPr/>
            <p:nvPr/>
          </p:nvGrpSpPr>
          <p:grpSpPr>
            <a:xfrm>
              <a:off x="671400" y="3107880"/>
              <a:ext cx="328320" cy="319320"/>
              <a:chOff x="671400" y="3107880"/>
              <a:chExt cx="328320" cy="319320"/>
            </a:xfrm>
          </p:grpSpPr>
          <p:sp>
            <p:nvSpPr>
              <p:cNvPr id="801" name="AutoShape 4"/>
              <p:cNvSpPr/>
              <p:nvPr/>
            </p:nvSpPr>
            <p:spPr>
              <a:xfrm>
                <a:off x="671400" y="310788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02" name="Freeform 5"/>
              <p:cNvGrpSpPr/>
              <p:nvPr/>
            </p:nvGrpSpPr>
            <p:grpSpPr>
              <a:xfrm>
                <a:off x="688680" y="3120480"/>
                <a:ext cx="170640" cy="171000"/>
                <a:chOff x="688680" y="3120480"/>
                <a:chExt cx="170640" cy="171000"/>
              </a:xfrm>
            </p:grpSpPr>
            <p:pic>
              <p:nvPicPr>
                <p:cNvPr id="803" name="Freeform 5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88680" y="312048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04" name=""/>
                <p:cNvSpPr/>
                <p:nvPr/>
              </p:nvSpPr>
              <p:spPr>
                <a:xfrm>
                  <a:off x="691920" y="312804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05" name="TextBox 88"/>
            <p:cNvSpPr/>
            <p:nvPr/>
          </p:nvSpPr>
          <p:spPr>
            <a:xfrm>
              <a:off x="678600" y="30700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6" name="그룹 90"/>
          <p:cNvGrpSpPr/>
          <p:nvPr/>
        </p:nvGrpSpPr>
        <p:grpSpPr>
          <a:xfrm>
            <a:off x="996840" y="5146560"/>
            <a:ext cx="8147160" cy="639720"/>
            <a:chOff x="996840" y="5146560"/>
            <a:chExt cx="8147160" cy="639720"/>
          </a:xfrm>
        </p:grpSpPr>
        <p:grpSp>
          <p:nvGrpSpPr>
            <p:cNvPr id="807" name="그룹 142"/>
            <p:cNvGrpSpPr/>
            <p:nvPr/>
          </p:nvGrpSpPr>
          <p:grpSpPr>
            <a:xfrm>
              <a:off x="996840" y="5146560"/>
              <a:ext cx="8147160" cy="505440"/>
              <a:chOff x="996840" y="5146560"/>
              <a:chExt cx="8147160" cy="505440"/>
            </a:xfrm>
          </p:grpSpPr>
          <p:grpSp>
            <p:nvGrpSpPr>
              <p:cNvPr id="808" name="그룹 97"/>
              <p:cNvGrpSpPr/>
              <p:nvPr/>
            </p:nvGrpSpPr>
            <p:grpSpPr>
              <a:xfrm>
                <a:off x="996840" y="5175720"/>
                <a:ext cx="305640" cy="337320"/>
                <a:chOff x="996840" y="5175720"/>
                <a:chExt cx="305640" cy="337320"/>
              </a:xfrm>
            </p:grpSpPr>
            <p:pic>
              <p:nvPicPr>
                <p:cNvPr id="809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000080" y="5228640"/>
                  <a:ext cx="286200" cy="213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0" name="TextBox 146"/>
                <p:cNvSpPr/>
                <p:nvPr/>
              </p:nvSpPr>
              <p:spPr>
                <a:xfrm>
                  <a:off x="996840" y="517572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11" name="직사각형 45"/>
              <p:cNvSpPr/>
              <p:nvPr/>
            </p:nvSpPr>
            <p:spPr>
              <a:xfrm>
                <a:off x="1071360" y="5146560"/>
                <a:ext cx="80726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부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negative transfer) 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이 후속학습을 방해하는 현상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능적 고착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2" name="직사각형 42"/>
            <p:cNvSpPr/>
            <p:nvPr/>
          </p:nvSpPr>
          <p:spPr>
            <a:xfrm>
              <a:off x="1315800" y="5439600"/>
              <a:ext cx="7501320" cy="34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just">
                <a:lnSpc>
                  <a:spcPts val="319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3" name="그룹 90"/>
          <p:cNvGrpSpPr/>
          <p:nvPr/>
        </p:nvGrpSpPr>
        <p:grpSpPr>
          <a:xfrm>
            <a:off x="1000080" y="5857920"/>
            <a:ext cx="7858080" cy="784080"/>
            <a:chOff x="1000080" y="5857920"/>
            <a:chExt cx="7858080" cy="784080"/>
          </a:xfrm>
        </p:grpSpPr>
        <p:grpSp>
          <p:nvGrpSpPr>
            <p:cNvPr id="814" name="그룹 142"/>
            <p:cNvGrpSpPr/>
            <p:nvPr/>
          </p:nvGrpSpPr>
          <p:grpSpPr>
            <a:xfrm>
              <a:off x="1000080" y="5857920"/>
              <a:ext cx="7786800" cy="505440"/>
              <a:chOff x="1000080" y="5857920"/>
              <a:chExt cx="7786800" cy="505440"/>
            </a:xfrm>
          </p:grpSpPr>
          <p:grpSp>
            <p:nvGrpSpPr>
              <p:cNvPr id="815" name="그룹 97"/>
              <p:cNvGrpSpPr/>
              <p:nvPr/>
            </p:nvGrpSpPr>
            <p:grpSpPr>
              <a:xfrm>
                <a:off x="1000080" y="5904360"/>
                <a:ext cx="286920" cy="337320"/>
                <a:chOff x="1000080" y="5904360"/>
                <a:chExt cx="286920" cy="337320"/>
              </a:xfrm>
            </p:grpSpPr>
            <p:pic>
              <p:nvPicPr>
                <p:cNvPr id="816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000080" y="5960880"/>
                  <a:ext cx="286920" cy="258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7" name="TextBox 146"/>
                <p:cNvSpPr/>
                <p:nvPr/>
              </p:nvSpPr>
              <p:spPr>
                <a:xfrm>
                  <a:off x="1002240" y="590436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18" name="직사각형 55"/>
              <p:cNvSpPr/>
              <p:nvPr/>
            </p:nvSpPr>
            <p:spPr>
              <a:xfrm>
                <a:off x="1071360" y="5857920"/>
                <a:ext cx="77155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영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zero transfer) 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이 후속학습에 아무런 영향을 미치지 않는 현상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9" name="직사각형 52"/>
            <p:cNvSpPr/>
            <p:nvPr/>
          </p:nvSpPr>
          <p:spPr>
            <a:xfrm>
              <a:off x="1317600" y="6217200"/>
              <a:ext cx="7540560" cy="42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just">
                <a:lnSpc>
                  <a:spcPts val="319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0" name="그룹 35"/>
          <p:cNvGrpSpPr/>
          <p:nvPr/>
        </p:nvGrpSpPr>
        <p:grpSpPr>
          <a:xfrm>
            <a:off x="642960" y="1214280"/>
            <a:ext cx="8429760" cy="430200"/>
            <a:chOff x="642960" y="1214280"/>
            <a:chExt cx="8429760" cy="430200"/>
          </a:xfrm>
        </p:grpSpPr>
        <p:grpSp>
          <p:nvGrpSpPr>
            <p:cNvPr id="821" name="그룹 48"/>
            <p:cNvGrpSpPr/>
            <p:nvPr/>
          </p:nvGrpSpPr>
          <p:grpSpPr>
            <a:xfrm>
              <a:off x="642960" y="1242720"/>
              <a:ext cx="8429760" cy="401760"/>
              <a:chOff x="642960" y="1242720"/>
              <a:chExt cx="8429760" cy="401760"/>
            </a:xfrm>
          </p:grpSpPr>
          <p:sp>
            <p:nvSpPr>
              <p:cNvPr id="822" name="직사각형 13"/>
              <p:cNvSpPr/>
              <p:nvPr/>
            </p:nvSpPr>
            <p:spPr>
              <a:xfrm>
                <a:off x="1295640" y="124272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의미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3" name="직선 연결선 18"/>
              <p:cNvSpPr/>
              <p:nvPr/>
            </p:nvSpPr>
            <p:spPr>
              <a:xfrm>
                <a:off x="642960" y="164304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4" name="그룹 49"/>
            <p:cNvGrpSpPr/>
            <p:nvPr/>
          </p:nvGrpSpPr>
          <p:grpSpPr>
            <a:xfrm>
              <a:off x="671400" y="1252080"/>
              <a:ext cx="328320" cy="319320"/>
              <a:chOff x="671400" y="1252080"/>
              <a:chExt cx="328320" cy="319320"/>
            </a:xfrm>
          </p:grpSpPr>
          <p:sp>
            <p:nvSpPr>
              <p:cNvPr id="825" name="AutoShape 4"/>
              <p:cNvSpPr/>
              <p:nvPr/>
            </p:nvSpPr>
            <p:spPr>
              <a:xfrm>
                <a:off x="671400" y="125208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26" name="Freeform 5"/>
              <p:cNvGrpSpPr/>
              <p:nvPr/>
            </p:nvGrpSpPr>
            <p:grpSpPr>
              <a:xfrm>
                <a:off x="688680" y="1267200"/>
                <a:ext cx="170640" cy="171000"/>
                <a:chOff x="688680" y="1267200"/>
                <a:chExt cx="170640" cy="171000"/>
              </a:xfrm>
            </p:grpSpPr>
            <p:pic>
              <p:nvPicPr>
                <p:cNvPr id="827" name="Freeform 5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688680" y="12672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28" name=""/>
                <p:cNvSpPr/>
                <p:nvPr/>
              </p:nvSpPr>
              <p:spPr>
                <a:xfrm>
                  <a:off x="691920" y="127224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29" name="TextBox 88"/>
            <p:cNvSpPr/>
            <p:nvPr/>
          </p:nvSpPr>
          <p:spPr>
            <a:xfrm>
              <a:off x="678600" y="12142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30" name="Picture 5" descr="233"/>
          <p:cNvPicPr/>
          <p:nvPr/>
        </p:nvPicPr>
        <p:blipFill>
          <a:blip r:embed="rId9"/>
          <a:srcRect l="2544" t="0" r="24313" b="0"/>
          <a:stretch/>
        </p:blipFill>
        <p:spPr>
          <a:xfrm>
            <a:off x="714240" y="1857240"/>
            <a:ext cx="8072640" cy="1000440"/>
          </a:xfrm>
          <a:prstGeom prst="rect">
            <a:avLst/>
          </a:prstGeom>
          <a:ln w="0">
            <a:noFill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831" name="직사각형 63"/>
          <p:cNvSpPr/>
          <p:nvPr/>
        </p:nvSpPr>
        <p:spPr>
          <a:xfrm>
            <a:off x="785880" y="1785960"/>
            <a:ext cx="8001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정 장면에서 학습한 지식 및 기술이 새로운 장면의 학습이나 행동에 영향을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미치는 현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2" name="TextBox 12" descr=""/>
          <p:cNvPicPr/>
          <p:nvPr/>
        </p:nvPicPr>
        <p:blipFill>
          <a:blip r:embed="rId1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833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83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35" name="직사각형 13"/>
              <p:cNvSpPr/>
              <p:nvPr/>
            </p:nvSpPr>
            <p:spPr>
              <a:xfrm>
                <a:off x="1295640" y="138564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3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3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4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4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42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3" name="그룹 37"/>
          <p:cNvGrpSpPr/>
          <p:nvPr/>
        </p:nvGrpSpPr>
        <p:grpSpPr>
          <a:xfrm>
            <a:off x="285840" y="1928880"/>
            <a:ext cx="8501040" cy="4071960"/>
            <a:chOff x="285840" y="1928880"/>
            <a:chExt cx="8501040" cy="4071960"/>
          </a:xfrm>
        </p:grpSpPr>
        <p:grpSp>
          <p:nvGrpSpPr>
            <p:cNvPr id="844" name="그룹 91"/>
            <p:cNvGrpSpPr/>
            <p:nvPr/>
          </p:nvGrpSpPr>
          <p:grpSpPr>
            <a:xfrm>
              <a:off x="285840" y="2143080"/>
              <a:ext cx="8501040" cy="3857760"/>
              <a:chOff x="285840" y="2143080"/>
              <a:chExt cx="8501040" cy="3857760"/>
            </a:xfrm>
          </p:grpSpPr>
          <p:pic>
            <p:nvPicPr>
              <p:cNvPr id="845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143080"/>
                <a:ext cx="8501040" cy="38577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846" name="직사각형 23"/>
              <p:cNvSpPr/>
              <p:nvPr/>
            </p:nvSpPr>
            <p:spPr>
              <a:xfrm>
                <a:off x="1285920" y="238428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7" name="그룹 91"/>
            <p:cNvGrpSpPr/>
            <p:nvPr/>
          </p:nvGrpSpPr>
          <p:grpSpPr>
            <a:xfrm>
              <a:off x="928440" y="1928880"/>
              <a:ext cx="2360880" cy="551160"/>
              <a:chOff x="928440" y="1928880"/>
              <a:chExt cx="2360880" cy="551160"/>
            </a:xfrm>
          </p:grpSpPr>
          <p:grpSp>
            <p:nvGrpSpPr>
              <p:cNvPr id="848" name="그룹 34"/>
              <p:cNvGrpSpPr/>
              <p:nvPr/>
            </p:nvGrpSpPr>
            <p:grpSpPr>
              <a:xfrm>
                <a:off x="928440" y="2038320"/>
                <a:ext cx="349200" cy="361800"/>
                <a:chOff x="928440" y="2038320"/>
                <a:chExt cx="349200" cy="361800"/>
              </a:xfrm>
            </p:grpSpPr>
            <p:pic>
              <p:nvPicPr>
                <p:cNvPr id="849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28440" y="2047680"/>
                  <a:ext cx="349200" cy="352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0" name="TextBox 36"/>
                <p:cNvSpPr/>
                <p:nvPr/>
              </p:nvSpPr>
              <p:spPr>
                <a:xfrm>
                  <a:off x="957960" y="203832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1" name="직사각형 19"/>
              <p:cNvSpPr/>
              <p:nvPr/>
            </p:nvSpPr>
            <p:spPr>
              <a:xfrm>
                <a:off x="1671480" y="1928880"/>
                <a:ext cx="161784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일반전이와 특수전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52" name="그룹 90"/>
          <p:cNvGrpSpPr/>
          <p:nvPr/>
        </p:nvGrpSpPr>
        <p:grpSpPr>
          <a:xfrm>
            <a:off x="1152720" y="2676600"/>
            <a:ext cx="7823160" cy="1005120"/>
            <a:chOff x="1152720" y="2676600"/>
            <a:chExt cx="7823160" cy="1005120"/>
          </a:xfrm>
        </p:grpSpPr>
        <p:grpSp>
          <p:nvGrpSpPr>
            <p:cNvPr id="853" name="그룹 142"/>
            <p:cNvGrpSpPr/>
            <p:nvPr/>
          </p:nvGrpSpPr>
          <p:grpSpPr>
            <a:xfrm>
              <a:off x="1152720" y="2676600"/>
              <a:ext cx="2675520" cy="505440"/>
              <a:chOff x="1152720" y="2676600"/>
              <a:chExt cx="2675520" cy="505440"/>
            </a:xfrm>
          </p:grpSpPr>
          <p:grpSp>
            <p:nvGrpSpPr>
              <p:cNvPr id="854" name="그룹 97"/>
              <p:cNvGrpSpPr/>
              <p:nvPr/>
            </p:nvGrpSpPr>
            <p:grpSpPr>
              <a:xfrm>
                <a:off x="1152720" y="2741400"/>
                <a:ext cx="295200" cy="337320"/>
                <a:chOff x="1152720" y="2741400"/>
                <a:chExt cx="295200" cy="337320"/>
              </a:xfrm>
            </p:grpSpPr>
            <p:pic>
              <p:nvPicPr>
                <p:cNvPr id="855" name="Picture 177" descr="bull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158840" y="2791800"/>
                  <a:ext cx="284040" cy="286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6" name="TextBox 146"/>
                <p:cNvSpPr/>
                <p:nvPr/>
              </p:nvSpPr>
              <p:spPr>
                <a:xfrm>
                  <a:off x="1152720" y="274140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7" name="직사각형 31"/>
              <p:cNvSpPr/>
              <p:nvPr/>
            </p:nvSpPr>
            <p:spPr>
              <a:xfrm>
                <a:off x="1378440" y="2676600"/>
                <a:ext cx="24498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일반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general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8" name="직선 연결선 26"/>
            <p:cNvSpPr/>
            <p:nvPr/>
          </p:nvSpPr>
          <p:spPr>
            <a:xfrm>
              <a:off x="4643640" y="296208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9" name="그룹 114"/>
            <p:cNvGrpSpPr/>
            <p:nvPr/>
          </p:nvGrpSpPr>
          <p:grpSpPr>
            <a:xfrm>
              <a:off x="1376280" y="3176280"/>
              <a:ext cx="7599600" cy="505440"/>
              <a:chOff x="1376280" y="3176280"/>
              <a:chExt cx="7599600" cy="505440"/>
            </a:xfrm>
          </p:grpSpPr>
          <p:sp>
            <p:nvSpPr>
              <p:cNvPr id="860" name="직사각형 28"/>
              <p:cNvSpPr/>
              <p:nvPr/>
            </p:nvSpPr>
            <p:spPr>
              <a:xfrm>
                <a:off x="1538640" y="3176280"/>
                <a:ext cx="74372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에서 획득한 지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법칙을 완전히 새로운 장면에 적용하는 것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61" name="타원 29"/>
              <p:cNvGrpSpPr/>
              <p:nvPr/>
            </p:nvGrpSpPr>
            <p:grpSpPr>
              <a:xfrm>
                <a:off x="1376280" y="3346560"/>
                <a:ext cx="223560" cy="231480"/>
                <a:chOff x="1376280" y="3346560"/>
                <a:chExt cx="223560" cy="231480"/>
              </a:xfrm>
            </p:grpSpPr>
            <p:pic>
              <p:nvPicPr>
                <p:cNvPr id="862" name="타원 29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376280" y="334656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63" name=""/>
                <p:cNvSpPr/>
                <p:nvPr/>
              </p:nvSpPr>
              <p:spPr>
                <a:xfrm rot="10800000">
                  <a:off x="1455480" y="34045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864" name="그룹 90"/>
          <p:cNvGrpSpPr/>
          <p:nvPr/>
        </p:nvGrpSpPr>
        <p:grpSpPr>
          <a:xfrm>
            <a:off x="1155600" y="4154400"/>
            <a:ext cx="7820280" cy="1438200"/>
            <a:chOff x="1155600" y="4154400"/>
            <a:chExt cx="7820280" cy="1438200"/>
          </a:xfrm>
        </p:grpSpPr>
        <p:grpSp>
          <p:nvGrpSpPr>
            <p:cNvPr id="865" name="그룹 142"/>
            <p:cNvGrpSpPr/>
            <p:nvPr/>
          </p:nvGrpSpPr>
          <p:grpSpPr>
            <a:xfrm>
              <a:off x="1155600" y="4154400"/>
              <a:ext cx="2670120" cy="505440"/>
              <a:chOff x="1155600" y="4154400"/>
              <a:chExt cx="2670120" cy="505440"/>
            </a:xfrm>
          </p:grpSpPr>
          <p:grpSp>
            <p:nvGrpSpPr>
              <p:cNvPr id="866" name="그룹 97"/>
              <p:cNvGrpSpPr/>
              <p:nvPr/>
            </p:nvGrpSpPr>
            <p:grpSpPr>
              <a:xfrm>
                <a:off x="1155600" y="4219200"/>
                <a:ext cx="305640" cy="337320"/>
                <a:chOff x="1155600" y="4219200"/>
                <a:chExt cx="305640" cy="337320"/>
              </a:xfrm>
            </p:grpSpPr>
            <p:pic>
              <p:nvPicPr>
                <p:cNvPr id="867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158840" y="4266720"/>
                  <a:ext cx="286200" cy="286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68" name="TextBox 146"/>
                <p:cNvSpPr/>
                <p:nvPr/>
              </p:nvSpPr>
              <p:spPr>
                <a:xfrm>
                  <a:off x="1155600" y="421920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69" name="직사각형 41"/>
              <p:cNvSpPr/>
              <p:nvPr/>
            </p:nvSpPr>
            <p:spPr>
              <a:xfrm>
                <a:off x="1398600" y="4154400"/>
                <a:ext cx="24271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수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specific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0" name="직선 연결선 36"/>
            <p:cNvSpPr/>
            <p:nvPr/>
          </p:nvSpPr>
          <p:spPr>
            <a:xfrm>
              <a:off x="4643640" y="443988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1" name="그룹 114"/>
            <p:cNvGrpSpPr/>
            <p:nvPr/>
          </p:nvGrpSpPr>
          <p:grpSpPr>
            <a:xfrm>
              <a:off x="1376280" y="4675680"/>
              <a:ext cx="7599600" cy="916920"/>
              <a:chOff x="1376280" y="4675680"/>
              <a:chExt cx="7599600" cy="916920"/>
            </a:xfrm>
          </p:grpSpPr>
          <p:sp>
            <p:nvSpPr>
              <p:cNvPr id="872" name="직사각형 38"/>
              <p:cNvSpPr/>
              <p:nvPr/>
            </p:nvSpPr>
            <p:spPr>
              <a:xfrm>
                <a:off x="1538640" y="4675680"/>
                <a:ext cx="743724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장면에서 학습한 지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법칙 등을 매우 유사한 장면에 적용하는 것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영어 학습이 불어 학습에 영향을 미치는 것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73" name="타원 39"/>
              <p:cNvGrpSpPr/>
              <p:nvPr/>
            </p:nvGrpSpPr>
            <p:grpSpPr>
              <a:xfrm>
                <a:off x="1376280" y="4858200"/>
                <a:ext cx="223560" cy="231480"/>
                <a:chOff x="1376280" y="4858200"/>
                <a:chExt cx="223560" cy="231480"/>
              </a:xfrm>
            </p:grpSpPr>
            <p:pic>
              <p:nvPicPr>
                <p:cNvPr id="874" name="타원 39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6280" y="485820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75" name=""/>
                <p:cNvSpPr/>
                <p:nvPr/>
              </p:nvSpPr>
              <p:spPr>
                <a:xfrm rot="10800000">
                  <a:off x="1455480" y="49165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6" name="그룹 37"/>
          <p:cNvGrpSpPr/>
          <p:nvPr/>
        </p:nvGrpSpPr>
        <p:grpSpPr>
          <a:xfrm>
            <a:off x="285840" y="1928880"/>
            <a:ext cx="8501040" cy="4286160"/>
            <a:chOff x="285840" y="1928880"/>
            <a:chExt cx="8501040" cy="4286160"/>
          </a:xfrm>
        </p:grpSpPr>
        <p:grpSp>
          <p:nvGrpSpPr>
            <p:cNvPr id="877" name="그룹 91"/>
            <p:cNvGrpSpPr/>
            <p:nvPr/>
          </p:nvGrpSpPr>
          <p:grpSpPr>
            <a:xfrm>
              <a:off x="285840" y="2143080"/>
              <a:ext cx="8501040" cy="4071960"/>
              <a:chOff x="285840" y="2143080"/>
              <a:chExt cx="8501040" cy="4071960"/>
            </a:xfrm>
          </p:grpSpPr>
          <p:pic>
            <p:nvPicPr>
              <p:cNvPr id="878" name="Picture 5" descr="233"/>
              <p:cNvPicPr/>
              <p:nvPr/>
            </p:nvPicPr>
            <p:blipFill>
              <a:blip r:embed="rId1"/>
              <a:srcRect l="0" t="0" r="24313" b="0"/>
              <a:stretch/>
            </p:blipFill>
            <p:spPr>
              <a:xfrm>
                <a:off x="285840" y="2143080"/>
                <a:ext cx="8501040" cy="40719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879" name="직사각형 23"/>
              <p:cNvSpPr/>
              <p:nvPr/>
            </p:nvSpPr>
            <p:spPr>
              <a:xfrm>
                <a:off x="1285920" y="238428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0" name="그룹 91"/>
            <p:cNvGrpSpPr/>
            <p:nvPr/>
          </p:nvGrpSpPr>
          <p:grpSpPr>
            <a:xfrm>
              <a:off x="928440" y="1928880"/>
              <a:ext cx="2937960" cy="551160"/>
              <a:chOff x="928440" y="1928880"/>
              <a:chExt cx="2937960" cy="551160"/>
            </a:xfrm>
          </p:grpSpPr>
          <p:grpSp>
            <p:nvGrpSpPr>
              <p:cNvPr id="881" name="그룹 34"/>
              <p:cNvGrpSpPr/>
              <p:nvPr/>
            </p:nvGrpSpPr>
            <p:grpSpPr>
              <a:xfrm>
                <a:off x="928440" y="2038320"/>
                <a:ext cx="349200" cy="361800"/>
                <a:chOff x="928440" y="2038320"/>
                <a:chExt cx="349200" cy="361800"/>
              </a:xfrm>
            </p:grpSpPr>
            <p:pic>
              <p:nvPicPr>
                <p:cNvPr id="882" name="Picture 177" descr="bull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928440" y="2047680"/>
                  <a:ext cx="349200" cy="352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83" name="TextBox 36"/>
                <p:cNvSpPr/>
                <p:nvPr/>
              </p:nvSpPr>
              <p:spPr>
                <a:xfrm>
                  <a:off x="957960" y="203832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84" name="직사각형 19"/>
              <p:cNvSpPr/>
              <p:nvPr/>
            </p:nvSpPr>
            <p:spPr>
              <a:xfrm>
                <a:off x="1812600" y="1928880"/>
                <a:ext cx="205380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수평적 전이와 수직적 전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85" name="그룹 90"/>
          <p:cNvGrpSpPr/>
          <p:nvPr/>
        </p:nvGrpSpPr>
        <p:grpSpPr>
          <a:xfrm>
            <a:off x="1152720" y="2714760"/>
            <a:ext cx="7823160" cy="1309320"/>
            <a:chOff x="1152720" y="2714760"/>
            <a:chExt cx="7823160" cy="1309320"/>
          </a:xfrm>
        </p:grpSpPr>
        <p:grpSp>
          <p:nvGrpSpPr>
            <p:cNvPr id="886" name="그룹 142"/>
            <p:cNvGrpSpPr/>
            <p:nvPr/>
          </p:nvGrpSpPr>
          <p:grpSpPr>
            <a:xfrm>
              <a:off x="1152720" y="2714760"/>
              <a:ext cx="3167640" cy="505440"/>
              <a:chOff x="1152720" y="2714760"/>
              <a:chExt cx="3167640" cy="505440"/>
            </a:xfrm>
          </p:grpSpPr>
          <p:grpSp>
            <p:nvGrpSpPr>
              <p:cNvPr id="887" name="그룹 97"/>
              <p:cNvGrpSpPr/>
              <p:nvPr/>
            </p:nvGrpSpPr>
            <p:grpSpPr>
              <a:xfrm>
                <a:off x="1152720" y="2779560"/>
                <a:ext cx="295200" cy="337320"/>
                <a:chOff x="1152720" y="2779560"/>
                <a:chExt cx="295200" cy="337320"/>
              </a:xfrm>
            </p:grpSpPr>
            <p:pic>
              <p:nvPicPr>
                <p:cNvPr id="888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158840" y="2828160"/>
                  <a:ext cx="284040" cy="286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89" name="TextBox 146"/>
                <p:cNvSpPr/>
                <p:nvPr/>
              </p:nvSpPr>
              <p:spPr>
                <a:xfrm>
                  <a:off x="1152720" y="2779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90" name="직사각형 32"/>
              <p:cNvSpPr/>
              <p:nvPr/>
            </p:nvSpPr>
            <p:spPr>
              <a:xfrm>
                <a:off x="1437840" y="2714760"/>
                <a:ext cx="28825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평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horizontal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91" name="직선 연결선 26"/>
            <p:cNvSpPr/>
            <p:nvPr/>
          </p:nvSpPr>
          <p:spPr>
            <a:xfrm>
              <a:off x="4643640" y="300024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2" name="그룹 114"/>
            <p:cNvGrpSpPr/>
            <p:nvPr/>
          </p:nvGrpSpPr>
          <p:grpSpPr>
            <a:xfrm>
              <a:off x="1376280" y="3107160"/>
              <a:ext cx="7599600" cy="916920"/>
              <a:chOff x="1376280" y="3107160"/>
              <a:chExt cx="7599600" cy="916920"/>
            </a:xfrm>
          </p:grpSpPr>
          <p:sp>
            <p:nvSpPr>
              <p:cNvPr id="893" name="직사각형 28"/>
              <p:cNvSpPr/>
              <p:nvPr/>
            </p:nvSpPr>
            <p:spPr>
              <a:xfrm>
                <a:off x="1538640" y="3107160"/>
                <a:ext cx="743724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과 후속학습의 수준이 비슷한 경우에 나타나는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역사시간에 학습한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3.1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운동이 국어시간의 독립선언문 학습에 영향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94" name="타원 29"/>
              <p:cNvGrpSpPr/>
              <p:nvPr/>
            </p:nvGrpSpPr>
            <p:grpSpPr>
              <a:xfrm>
                <a:off x="1376280" y="3279600"/>
                <a:ext cx="223560" cy="231480"/>
                <a:chOff x="1376280" y="3279600"/>
                <a:chExt cx="223560" cy="231480"/>
              </a:xfrm>
            </p:grpSpPr>
            <p:pic>
              <p:nvPicPr>
                <p:cNvPr id="895" name="타원 2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376280" y="327960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96" name=""/>
                <p:cNvSpPr/>
                <p:nvPr/>
              </p:nvSpPr>
              <p:spPr>
                <a:xfrm rot="10800000">
                  <a:off x="1455480" y="33357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897" name="TextBox 12" descr=""/>
          <p:cNvPicPr/>
          <p:nvPr/>
        </p:nvPicPr>
        <p:blipFill>
          <a:blip r:embed="rId5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898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89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00" name="직사각형 13"/>
              <p:cNvSpPr/>
              <p:nvPr/>
            </p:nvSpPr>
            <p:spPr>
              <a:xfrm>
                <a:off x="1295640" y="138564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0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0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05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0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07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8" name="그룹 90"/>
          <p:cNvGrpSpPr/>
          <p:nvPr/>
        </p:nvGrpSpPr>
        <p:grpSpPr>
          <a:xfrm>
            <a:off x="1155600" y="4214880"/>
            <a:ext cx="7820280" cy="2131920"/>
            <a:chOff x="1155600" y="4214880"/>
            <a:chExt cx="7820280" cy="2131920"/>
          </a:xfrm>
        </p:grpSpPr>
        <p:grpSp>
          <p:nvGrpSpPr>
            <p:cNvPr id="909" name="그룹 142"/>
            <p:cNvGrpSpPr/>
            <p:nvPr/>
          </p:nvGrpSpPr>
          <p:grpSpPr>
            <a:xfrm>
              <a:off x="1155600" y="4214880"/>
              <a:ext cx="2903400" cy="505440"/>
              <a:chOff x="1155600" y="4214880"/>
              <a:chExt cx="2903400" cy="505440"/>
            </a:xfrm>
          </p:grpSpPr>
          <p:grpSp>
            <p:nvGrpSpPr>
              <p:cNvPr id="910" name="그룹 97"/>
              <p:cNvGrpSpPr/>
              <p:nvPr/>
            </p:nvGrpSpPr>
            <p:grpSpPr>
              <a:xfrm>
                <a:off x="1155600" y="4279680"/>
                <a:ext cx="305640" cy="337320"/>
                <a:chOff x="1155600" y="4279680"/>
                <a:chExt cx="305640" cy="337320"/>
              </a:xfrm>
            </p:grpSpPr>
            <p:pic>
              <p:nvPicPr>
                <p:cNvPr id="911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158840" y="4327920"/>
                  <a:ext cx="286200" cy="286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12" name="TextBox 146"/>
                <p:cNvSpPr/>
                <p:nvPr/>
              </p:nvSpPr>
              <p:spPr>
                <a:xfrm>
                  <a:off x="1155600" y="42796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13" name="직사각형 42"/>
              <p:cNvSpPr/>
              <p:nvPr/>
            </p:nvSpPr>
            <p:spPr>
              <a:xfrm>
                <a:off x="1450800" y="4214880"/>
                <a:ext cx="26082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직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vertical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14" name="직선 연결선 37"/>
            <p:cNvSpPr/>
            <p:nvPr/>
          </p:nvSpPr>
          <p:spPr>
            <a:xfrm>
              <a:off x="4643640" y="450036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15" name="그룹 114"/>
            <p:cNvGrpSpPr/>
            <p:nvPr/>
          </p:nvGrpSpPr>
          <p:grpSpPr>
            <a:xfrm>
              <a:off x="1376280" y="4606920"/>
              <a:ext cx="7599600" cy="1739880"/>
              <a:chOff x="1376280" y="4606920"/>
              <a:chExt cx="7599600" cy="1739880"/>
            </a:xfrm>
          </p:grpSpPr>
          <p:sp>
            <p:nvSpPr>
              <p:cNvPr id="916" name="직사각형 39"/>
              <p:cNvSpPr/>
              <p:nvPr/>
            </p:nvSpPr>
            <p:spPr>
              <a:xfrm>
                <a:off x="1538640" y="4606920"/>
                <a:ext cx="743724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위계관계가 분명한 학습과제 사이에서 나타나는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위계 관계가 분명한 학습과제에서 생김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구구단 학습이 곱셈과 나눗셈에 영향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17" name="타원 40"/>
              <p:cNvGrpSpPr/>
              <p:nvPr/>
            </p:nvGrpSpPr>
            <p:grpSpPr>
              <a:xfrm>
                <a:off x="1376280" y="4778640"/>
                <a:ext cx="223560" cy="231480"/>
                <a:chOff x="1376280" y="4778640"/>
                <a:chExt cx="223560" cy="231480"/>
              </a:xfrm>
            </p:grpSpPr>
            <p:pic>
              <p:nvPicPr>
                <p:cNvPr id="918" name="타원 40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6280" y="47786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19" name=""/>
                <p:cNvSpPr/>
                <p:nvPr/>
              </p:nvSpPr>
              <p:spPr>
                <a:xfrm rot="10800000">
                  <a:off x="1455480" y="48351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0" name="그룹 37"/>
          <p:cNvGrpSpPr/>
          <p:nvPr/>
        </p:nvGrpSpPr>
        <p:grpSpPr>
          <a:xfrm>
            <a:off x="285840" y="1928880"/>
            <a:ext cx="8501040" cy="3929040"/>
            <a:chOff x="285840" y="1928880"/>
            <a:chExt cx="8501040" cy="3929040"/>
          </a:xfrm>
        </p:grpSpPr>
        <p:grpSp>
          <p:nvGrpSpPr>
            <p:cNvPr id="921" name="그룹 91"/>
            <p:cNvGrpSpPr/>
            <p:nvPr/>
          </p:nvGrpSpPr>
          <p:grpSpPr>
            <a:xfrm>
              <a:off x="285840" y="2143080"/>
              <a:ext cx="8501040" cy="3714840"/>
              <a:chOff x="285840" y="2143080"/>
              <a:chExt cx="8501040" cy="3714840"/>
            </a:xfrm>
          </p:grpSpPr>
          <p:pic>
            <p:nvPicPr>
              <p:cNvPr id="922" name="Picture 5" descr="233"/>
              <p:cNvPicPr/>
              <p:nvPr/>
            </p:nvPicPr>
            <p:blipFill>
              <a:blip r:embed="rId1"/>
              <a:srcRect l="0" t="0" r="24313" b="0"/>
              <a:stretch/>
            </p:blipFill>
            <p:spPr>
              <a:xfrm>
                <a:off x="285840" y="2143080"/>
                <a:ext cx="8501040" cy="37148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23" name="직사각형 23"/>
              <p:cNvSpPr/>
              <p:nvPr/>
            </p:nvSpPr>
            <p:spPr>
              <a:xfrm>
                <a:off x="1285920" y="238428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24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925" name="그룹 91"/>
              <p:cNvGrpSpPr/>
              <p:nvPr/>
            </p:nvGrpSpPr>
            <p:grpSpPr>
              <a:xfrm>
                <a:off x="928440" y="1928880"/>
                <a:ext cx="2360880" cy="551160"/>
                <a:chOff x="928440" y="1928880"/>
                <a:chExt cx="2360880" cy="551160"/>
              </a:xfrm>
            </p:grpSpPr>
            <p:grpSp>
              <p:nvGrpSpPr>
                <p:cNvPr id="926" name="그룹 34"/>
                <p:cNvGrpSpPr/>
                <p:nvPr/>
              </p:nvGrpSpPr>
              <p:grpSpPr>
                <a:xfrm>
                  <a:off x="928440" y="2038320"/>
                  <a:ext cx="349200" cy="361800"/>
                  <a:chOff x="928440" y="2038320"/>
                  <a:chExt cx="349200" cy="361800"/>
                </a:xfrm>
              </p:grpSpPr>
              <p:pic>
                <p:nvPicPr>
                  <p:cNvPr id="927" name="Picture 177" descr="bull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8440" y="2047680"/>
                    <a:ext cx="34920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28" name="TextBox 36"/>
                  <p:cNvSpPr/>
                  <p:nvPr/>
                </p:nvSpPr>
                <p:spPr>
                  <a:xfrm>
                    <a:off x="957960" y="20383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4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29" name="직사각형 19"/>
                <p:cNvSpPr/>
                <p:nvPr/>
              </p:nvSpPr>
              <p:spPr>
                <a:xfrm>
                  <a:off x="1671480" y="1928880"/>
                  <a:ext cx="16178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근접전이와 원격전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30" name="직선 연결선 17"/>
              <p:cNvSpPr/>
              <p:nvPr/>
            </p:nvSpPr>
            <p:spPr>
              <a:xfrm>
                <a:off x="4786200" y="2214720"/>
                <a:ext cx="37162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31" name="그룹 90"/>
          <p:cNvGrpSpPr/>
          <p:nvPr/>
        </p:nvGrpSpPr>
        <p:grpSpPr>
          <a:xfrm>
            <a:off x="1152360" y="2714760"/>
            <a:ext cx="7823520" cy="898200"/>
            <a:chOff x="1152360" y="2714760"/>
            <a:chExt cx="7823520" cy="898200"/>
          </a:xfrm>
        </p:grpSpPr>
        <p:grpSp>
          <p:nvGrpSpPr>
            <p:cNvPr id="932" name="그룹 142"/>
            <p:cNvGrpSpPr/>
            <p:nvPr/>
          </p:nvGrpSpPr>
          <p:grpSpPr>
            <a:xfrm>
              <a:off x="1152360" y="2714760"/>
              <a:ext cx="2397240" cy="505440"/>
              <a:chOff x="1152360" y="2714760"/>
              <a:chExt cx="2397240" cy="505440"/>
            </a:xfrm>
          </p:grpSpPr>
          <p:grpSp>
            <p:nvGrpSpPr>
              <p:cNvPr id="933" name="그룹 97"/>
              <p:cNvGrpSpPr/>
              <p:nvPr/>
            </p:nvGrpSpPr>
            <p:grpSpPr>
              <a:xfrm>
                <a:off x="1152360" y="2779560"/>
                <a:ext cx="295200" cy="337320"/>
                <a:chOff x="1152360" y="2779560"/>
                <a:chExt cx="295200" cy="337320"/>
              </a:xfrm>
            </p:grpSpPr>
            <p:pic>
              <p:nvPicPr>
                <p:cNvPr id="934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158840" y="2828160"/>
                  <a:ext cx="28368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35" name="TextBox 146"/>
                <p:cNvSpPr/>
                <p:nvPr/>
              </p:nvSpPr>
              <p:spPr>
                <a:xfrm>
                  <a:off x="1152360" y="2779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36" name="직사각형 32"/>
              <p:cNvSpPr/>
              <p:nvPr/>
            </p:nvSpPr>
            <p:spPr>
              <a:xfrm>
                <a:off x="1391040" y="2714760"/>
                <a:ext cx="21585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근접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near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37" name="직선 연결선 26"/>
            <p:cNvSpPr/>
            <p:nvPr/>
          </p:nvSpPr>
          <p:spPr>
            <a:xfrm>
              <a:off x="4643640" y="300060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38" name="그룹 114"/>
            <p:cNvGrpSpPr/>
            <p:nvPr/>
          </p:nvGrpSpPr>
          <p:grpSpPr>
            <a:xfrm>
              <a:off x="1376280" y="3107520"/>
              <a:ext cx="7599600" cy="505440"/>
              <a:chOff x="1376280" y="3107520"/>
              <a:chExt cx="7599600" cy="505440"/>
            </a:xfrm>
          </p:grpSpPr>
          <p:sp>
            <p:nvSpPr>
              <p:cNvPr id="939" name="직사각형 28"/>
              <p:cNvSpPr/>
              <p:nvPr/>
            </p:nvSpPr>
            <p:spPr>
              <a:xfrm>
                <a:off x="1538640" y="3107520"/>
                <a:ext cx="74372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피상적인 특성은 물론 기저원리가 비슷한 장면 사이에 일어나는 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40" name="타원 29"/>
              <p:cNvGrpSpPr/>
              <p:nvPr/>
            </p:nvGrpSpPr>
            <p:grpSpPr>
              <a:xfrm>
                <a:off x="1376280" y="3279960"/>
                <a:ext cx="223560" cy="231840"/>
                <a:chOff x="1376280" y="3279960"/>
                <a:chExt cx="223560" cy="231840"/>
              </a:xfrm>
            </p:grpSpPr>
            <p:pic>
              <p:nvPicPr>
                <p:cNvPr id="941" name="타원 2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376280" y="3279960"/>
                  <a:ext cx="223560" cy="23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42" name=""/>
                <p:cNvSpPr/>
                <p:nvPr/>
              </p:nvSpPr>
              <p:spPr>
                <a:xfrm rot="10800000">
                  <a:off x="1455480" y="33361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943" name="TextBox 12" descr=""/>
          <p:cNvPicPr/>
          <p:nvPr/>
        </p:nvPicPr>
        <p:blipFill>
          <a:blip r:embed="rId5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944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94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46" name="직사각형 13"/>
              <p:cNvSpPr/>
              <p:nvPr/>
            </p:nvSpPr>
            <p:spPr>
              <a:xfrm>
                <a:off x="1295640" y="138564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4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5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51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5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53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4" name="그룹 90"/>
          <p:cNvGrpSpPr/>
          <p:nvPr/>
        </p:nvGrpSpPr>
        <p:grpSpPr>
          <a:xfrm>
            <a:off x="1155240" y="4214880"/>
            <a:ext cx="7820640" cy="897840"/>
            <a:chOff x="1155240" y="4214880"/>
            <a:chExt cx="7820640" cy="897840"/>
          </a:xfrm>
        </p:grpSpPr>
        <p:grpSp>
          <p:nvGrpSpPr>
            <p:cNvPr id="955" name="그룹 142"/>
            <p:cNvGrpSpPr/>
            <p:nvPr/>
          </p:nvGrpSpPr>
          <p:grpSpPr>
            <a:xfrm>
              <a:off x="1155240" y="4214880"/>
              <a:ext cx="2234520" cy="505440"/>
              <a:chOff x="1155240" y="4214880"/>
              <a:chExt cx="2234520" cy="505440"/>
            </a:xfrm>
          </p:grpSpPr>
          <p:grpSp>
            <p:nvGrpSpPr>
              <p:cNvPr id="956" name="그룹 97"/>
              <p:cNvGrpSpPr/>
              <p:nvPr/>
            </p:nvGrpSpPr>
            <p:grpSpPr>
              <a:xfrm>
                <a:off x="1155240" y="4279680"/>
                <a:ext cx="305640" cy="337320"/>
                <a:chOff x="1155240" y="4279680"/>
                <a:chExt cx="305640" cy="337320"/>
              </a:xfrm>
            </p:grpSpPr>
            <p:pic>
              <p:nvPicPr>
                <p:cNvPr id="957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158840" y="4327920"/>
                  <a:ext cx="28584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58" name="TextBox 146"/>
                <p:cNvSpPr/>
                <p:nvPr/>
              </p:nvSpPr>
              <p:spPr>
                <a:xfrm>
                  <a:off x="1155240" y="42796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59" name="직사각형 42"/>
              <p:cNvSpPr/>
              <p:nvPr/>
            </p:nvSpPr>
            <p:spPr>
              <a:xfrm>
                <a:off x="1400040" y="4214880"/>
                <a:ext cx="19897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원격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far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60" name="직선 연결선 37"/>
            <p:cNvSpPr/>
            <p:nvPr/>
          </p:nvSpPr>
          <p:spPr>
            <a:xfrm>
              <a:off x="4643640" y="45007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1" name="그룹 114"/>
            <p:cNvGrpSpPr/>
            <p:nvPr/>
          </p:nvGrpSpPr>
          <p:grpSpPr>
            <a:xfrm>
              <a:off x="1376280" y="4607280"/>
              <a:ext cx="7599600" cy="505440"/>
              <a:chOff x="1376280" y="4607280"/>
              <a:chExt cx="7599600" cy="505440"/>
            </a:xfrm>
          </p:grpSpPr>
          <p:sp>
            <p:nvSpPr>
              <p:cNvPr id="962" name="직사각형 39"/>
              <p:cNvSpPr/>
              <p:nvPr/>
            </p:nvSpPr>
            <p:spPr>
              <a:xfrm>
                <a:off x="1538640" y="4607280"/>
                <a:ext cx="74372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저원리는 동일하지만 피상적 특성이 다른 장면 사이에 일어나는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3" name="타원 40"/>
              <p:cNvGrpSpPr/>
              <p:nvPr/>
            </p:nvGrpSpPr>
            <p:grpSpPr>
              <a:xfrm>
                <a:off x="1376280" y="4779360"/>
                <a:ext cx="223560" cy="231840"/>
                <a:chOff x="1376280" y="4779360"/>
                <a:chExt cx="223560" cy="231840"/>
              </a:xfrm>
            </p:grpSpPr>
            <p:pic>
              <p:nvPicPr>
                <p:cNvPr id="964" name="타원 40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6280" y="4779360"/>
                  <a:ext cx="223560" cy="23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65" name=""/>
                <p:cNvSpPr/>
                <p:nvPr/>
              </p:nvSpPr>
              <p:spPr>
                <a:xfrm rot="10800000">
                  <a:off x="1455480" y="48362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6" name="그룹 37"/>
          <p:cNvGrpSpPr/>
          <p:nvPr/>
        </p:nvGrpSpPr>
        <p:grpSpPr>
          <a:xfrm>
            <a:off x="285840" y="1928880"/>
            <a:ext cx="8501040" cy="3929040"/>
            <a:chOff x="285840" y="1928880"/>
            <a:chExt cx="8501040" cy="3929040"/>
          </a:xfrm>
        </p:grpSpPr>
        <p:grpSp>
          <p:nvGrpSpPr>
            <p:cNvPr id="967" name="그룹 91"/>
            <p:cNvGrpSpPr/>
            <p:nvPr/>
          </p:nvGrpSpPr>
          <p:grpSpPr>
            <a:xfrm>
              <a:off x="285840" y="2143080"/>
              <a:ext cx="8501040" cy="3714840"/>
              <a:chOff x="285840" y="2143080"/>
              <a:chExt cx="8501040" cy="3714840"/>
            </a:xfrm>
          </p:grpSpPr>
          <p:pic>
            <p:nvPicPr>
              <p:cNvPr id="968" name="Picture 5" descr="233"/>
              <p:cNvPicPr/>
              <p:nvPr/>
            </p:nvPicPr>
            <p:blipFill>
              <a:blip r:embed="rId1"/>
              <a:srcRect l="0" t="0" r="24313" b="0"/>
              <a:stretch/>
            </p:blipFill>
            <p:spPr>
              <a:xfrm>
                <a:off x="285840" y="2143080"/>
                <a:ext cx="8501040" cy="37148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69" name="직사각형 23"/>
              <p:cNvSpPr/>
              <p:nvPr/>
            </p:nvSpPr>
            <p:spPr>
              <a:xfrm>
                <a:off x="1285920" y="238428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0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971" name="그룹 91"/>
              <p:cNvGrpSpPr/>
              <p:nvPr/>
            </p:nvGrpSpPr>
            <p:grpSpPr>
              <a:xfrm>
                <a:off x="928440" y="1928880"/>
                <a:ext cx="3142080" cy="551160"/>
                <a:chOff x="928440" y="1928880"/>
                <a:chExt cx="3142080" cy="551160"/>
              </a:xfrm>
            </p:grpSpPr>
            <p:grpSp>
              <p:nvGrpSpPr>
                <p:cNvPr id="972" name="그룹 34"/>
                <p:cNvGrpSpPr/>
                <p:nvPr/>
              </p:nvGrpSpPr>
              <p:grpSpPr>
                <a:xfrm>
                  <a:off x="928440" y="2038320"/>
                  <a:ext cx="349200" cy="361800"/>
                  <a:chOff x="928440" y="2038320"/>
                  <a:chExt cx="349200" cy="361800"/>
                </a:xfrm>
              </p:grpSpPr>
              <p:pic>
                <p:nvPicPr>
                  <p:cNvPr id="973" name="Picture 177" descr="bull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8440" y="2047680"/>
                    <a:ext cx="34920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74" name="TextBox 36"/>
                  <p:cNvSpPr/>
                  <p:nvPr/>
                </p:nvSpPr>
                <p:spPr>
                  <a:xfrm>
                    <a:off x="957960" y="20383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5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75" name="직사각형 19"/>
                <p:cNvSpPr/>
                <p:nvPr/>
              </p:nvSpPr>
              <p:spPr>
                <a:xfrm>
                  <a:off x="1864440" y="1928880"/>
                  <a:ext cx="220608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식적 전이와 무의식적 전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76" name="직선 연결선 17"/>
              <p:cNvSpPr/>
              <p:nvPr/>
            </p:nvSpPr>
            <p:spPr>
              <a:xfrm>
                <a:off x="4786200" y="2214720"/>
                <a:ext cx="37162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7" name="그룹 90"/>
          <p:cNvGrpSpPr/>
          <p:nvPr/>
        </p:nvGrpSpPr>
        <p:grpSpPr>
          <a:xfrm>
            <a:off x="1152720" y="2714760"/>
            <a:ext cx="7823160" cy="1171440"/>
            <a:chOff x="1152720" y="2714760"/>
            <a:chExt cx="7823160" cy="1171440"/>
          </a:xfrm>
        </p:grpSpPr>
        <p:grpSp>
          <p:nvGrpSpPr>
            <p:cNvPr id="978" name="그룹 142"/>
            <p:cNvGrpSpPr/>
            <p:nvPr/>
          </p:nvGrpSpPr>
          <p:grpSpPr>
            <a:xfrm>
              <a:off x="1152720" y="2714760"/>
              <a:ext cx="3146040" cy="505440"/>
              <a:chOff x="1152720" y="2714760"/>
              <a:chExt cx="3146040" cy="505440"/>
            </a:xfrm>
          </p:grpSpPr>
          <p:grpSp>
            <p:nvGrpSpPr>
              <p:cNvPr id="979" name="그룹 97"/>
              <p:cNvGrpSpPr/>
              <p:nvPr/>
            </p:nvGrpSpPr>
            <p:grpSpPr>
              <a:xfrm>
                <a:off x="1152720" y="2779560"/>
                <a:ext cx="295200" cy="337320"/>
                <a:chOff x="1152720" y="2779560"/>
                <a:chExt cx="295200" cy="337320"/>
              </a:xfrm>
            </p:grpSpPr>
            <p:pic>
              <p:nvPicPr>
                <p:cNvPr id="980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158840" y="2828520"/>
                  <a:ext cx="28404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81" name="TextBox 146"/>
                <p:cNvSpPr/>
                <p:nvPr/>
              </p:nvSpPr>
              <p:spPr>
                <a:xfrm>
                  <a:off x="1152720" y="2779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82" name="직사각형 32"/>
              <p:cNvSpPr/>
              <p:nvPr/>
            </p:nvSpPr>
            <p:spPr>
              <a:xfrm>
                <a:off x="1443600" y="2714760"/>
                <a:ext cx="28551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의식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high-road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83" name="직선 연결선 26"/>
            <p:cNvSpPr/>
            <p:nvPr/>
          </p:nvSpPr>
          <p:spPr>
            <a:xfrm>
              <a:off x="4643640" y="300024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4" name="그룹 114"/>
            <p:cNvGrpSpPr/>
            <p:nvPr/>
          </p:nvGrpSpPr>
          <p:grpSpPr>
            <a:xfrm>
              <a:off x="1376280" y="3106440"/>
              <a:ext cx="7599600" cy="779760"/>
              <a:chOff x="1376280" y="3106440"/>
              <a:chExt cx="7599600" cy="779760"/>
            </a:xfrm>
          </p:grpSpPr>
          <p:sp>
            <p:nvSpPr>
              <p:cNvPr id="985" name="직사각형 28"/>
              <p:cNvSpPr/>
              <p:nvPr/>
            </p:nvSpPr>
            <p:spPr>
              <a:xfrm>
                <a:off x="1538640" y="3106440"/>
                <a:ext cx="743724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에서 학습한 것을 새로운 학습에 의식적이고 의도적으로 적용할 때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나타나는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86" name="타원 29"/>
              <p:cNvGrpSpPr/>
              <p:nvPr/>
            </p:nvGrpSpPr>
            <p:grpSpPr>
              <a:xfrm>
                <a:off x="1376280" y="3279240"/>
                <a:ext cx="223560" cy="231480"/>
                <a:chOff x="1376280" y="3279240"/>
                <a:chExt cx="223560" cy="231480"/>
              </a:xfrm>
            </p:grpSpPr>
            <p:pic>
              <p:nvPicPr>
                <p:cNvPr id="987" name="타원 2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376280" y="32792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88" name=""/>
                <p:cNvSpPr/>
                <p:nvPr/>
              </p:nvSpPr>
              <p:spPr>
                <a:xfrm rot="10800000">
                  <a:off x="1455480" y="33346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989" name="TextBox 12" descr=""/>
          <p:cNvPicPr/>
          <p:nvPr/>
        </p:nvPicPr>
        <p:blipFill>
          <a:blip r:embed="rId5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990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99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92" name="직사각형 13"/>
              <p:cNvSpPr/>
              <p:nvPr/>
            </p:nvSpPr>
            <p:spPr>
              <a:xfrm>
                <a:off x="1295640" y="138564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3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9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9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97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9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99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0" name="그룹 90"/>
          <p:cNvGrpSpPr/>
          <p:nvPr/>
        </p:nvGrpSpPr>
        <p:grpSpPr>
          <a:xfrm>
            <a:off x="1155600" y="4214880"/>
            <a:ext cx="7820280" cy="1172160"/>
            <a:chOff x="1155600" y="4214880"/>
            <a:chExt cx="7820280" cy="1172160"/>
          </a:xfrm>
        </p:grpSpPr>
        <p:grpSp>
          <p:nvGrpSpPr>
            <p:cNvPr id="1001" name="그룹 142"/>
            <p:cNvGrpSpPr/>
            <p:nvPr/>
          </p:nvGrpSpPr>
          <p:grpSpPr>
            <a:xfrm>
              <a:off x="1155600" y="4214880"/>
              <a:ext cx="3218040" cy="505440"/>
              <a:chOff x="1155600" y="4214880"/>
              <a:chExt cx="3218040" cy="505440"/>
            </a:xfrm>
          </p:grpSpPr>
          <p:grpSp>
            <p:nvGrpSpPr>
              <p:cNvPr id="1002" name="그룹 97"/>
              <p:cNvGrpSpPr/>
              <p:nvPr/>
            </p:nvGrpSpPr>
            <p:grpSpPr>
              <a:xfrm>
                <a:off x="1155600" y="4279680"/>
                <a:ext cx="305640" cy="337320"/>
                <a:chOff x="1155600" y="4279680"/>
                <a:chExt cx="305640" cy="337320"/>
              </a:xfrm>
            </p:grpSpPr>
            <p:pic>
              <p:nvPicPr>
                <p:cNvPr id="1003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158840" y="4327920"/>
                  <a:ext cx="286200" cy="286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04" name="TextBox 146"/>
                <p:cNvSpPr/>
                <p:nvPr/>
              </p:nvSpPr>
              <p:spPr>
                <a:xfrm>
                  <a:off x="1155600" y="42796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05" name="직사각형 42"/>
              <p:cNvSpPr/>
              <p:nvPr/>
            </p:nvSpPr>
            <p:spPr>
              <a:xfrm>
                <a:off x="1474200" y="4214880"/>
                <a:ext cx="28994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무의식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low-road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06" name="직선 연결선 37"/>
            <p:cNvSpPr/>
            <p:nvPr/>
          </p:nvSpPr>
          <p:spPr>
            <a:xfrm>
              <a:off x="4643640" y="450036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7" name="그룹 114"/>
            <p:cNvGrpSpPr/>
            <p:nvPr/>
          </p:nvGrpSpPr>
          <p:grpSpPr>
            <a:xfrm>
              <a:off x="1376280" y="4607280"/>
              <a:ext cx="7599600" cy="779760"/>
              <a:chOff x="1376280" y="4607280"/>
              <a:chExt cx="7599600" cy="779760"/>
            </a:xfrm>
          </p:grpSpPr>
          <p:sp>
            <p:nvSpPr>
              <p:cNvPr id="1008" name="직사각형 39"/>
              <p:cNvSpPr/>
              <p:nvPr/>
            </p:nvSpPr>
            <p:spPr>
              <a:xfrm>
                <a:off x="1538640" y="4607280"/>
                <a:ext cx="743724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지식을 매우 유사한 학습과제의 문제해결에 자동적으로 적용할 경우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나타나는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09" name="타원 40"/>
              <p:cNvGrpSpPr/>
              <p:nvPr/>
            </p:nvGrpSpPr>
            <p:grpSpPr>
              <a:xfrm>
                <a:off x="1376280" y="4779000"/>
                <a:ext cx="223560" cy="231480"/>
                <a:chOff x="1376280" y="4779000"/>
                <a:chExt cx="223560" cy="231480"/>
              </a:xfrm>
            </p:grpSpPr>
            <p:pic>
              <p:nvPicPr>
                <p:cNvPr id="1010" name="타원 40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6280" y="477900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11" name=""/>
                <p:cNvSpPr/>
                <p:nvPr/>
              </p:nvSpPr>
              <p:spPr>
                <a:xfrm rot="10800000">
                  <a:off x="1455480" y="48358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2" name="그룹 37"/>
          <p:cNvGrpSpPr/>
          <p:nvPr/>
        </p:nvGrpSpPr>
        <p:grpSpPr>
          <a:xfrm>
            <a:off x="285840" y="1928880"/>
            <a:ext cx="8501040" cy="4500360"/>
            <a:chOff x="285840" y="1928880"/>
            <a:chExt cx="8501040" cy="4500360"/>
          </a:xfrm>
        </p:grpSpPr>
        <p:grpSp>
          <p:nvGrpSpPr>
            <p:cNvPr id="1013" name="그룹 91"/>
            <p:cNvGrpSpPr/>
            <p:nvPr/>
          </p:nvGrpSpPr>
          <p:grpSpPr>
            <a:xfrm>
              <a:off x="285840" y="2143080"/>
              <a:ext cx="8501040" cy="4286160"/>
              <a:chOff x="285840" y="2143080"/>
              <a:chExt cx="8501040" cy="4286160"/>
            </a:xfrm>
          </p:grpSpPr>
          <p:pic>
            <p:nvPicPr>
              <p:cNvPr id="1014" name="Picture 5" descr="233"/>
              <p:cNvPicPr/>
              <p:nvPr/>
            </p:nvPicPr>
            <p:blipFill>
              <a:blip r:embed="rId1"/>
              <a:srcRect l="0" t="0" r="24313" b="0"/>
              <a:stretch/>
            </p:blipFill>
            <p:spPr>
              <a:xfrm>
                <a:off x="285840" y="2143080"/>
                <a:ext cx="8501040" cy="42861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015" name="직사각형 23"/>
              <p:cNvSpPr/>
              <p:nvPr/>
            </p:nvSpPr>
            <p:spPr>
              <a:xfrm>
                <a:off x="1285920" y="238428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6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1017" name="그룹 91"/>
              <p:cNvGrpSpPr/>
              <p:nvPr/>
            </p:nvGrpSpPr>
            <p:grpSpPr>
              <a:xfrm>
                <a:off x="928440" y="1928880"/>
                <a:ext cx="2937960" cy="551160"/>
                <a:chOff x="928440" y="1928880"/>
                <a:chExt cx="2937960" cy="551160"/>
              </a:xfrm>
            </p:grpSpPr>
            <p:grpSp>
              <p:nvGrpSpPr>
                <p:cNvPr id="1018" name="그룹 34"/>
                <p:cNvGrpSpPr/>
                <p:nvPr/>
              </p:nvGrpSpPr>
              <p:grpSpPr>
                <a:xfrm>
                  <a:off x="928440" y="2038320"/>
                  <a:ext cx="349200" cy="361800"/>
                  <a:chOff x="928440" y="2038320"/>
                  <a:chExt cx="349200" cy="361800"/>
                </a:xfrm>
              </p:grpSpPr>
              <p:pic>
                <p:nvPicPr>
                  <p:cNvPr id="1019" name="Picture 177" descr="bull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8440" y="2047680"/>
                    <a:ext cx="34920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20" name="TextBox 36"/>
                  <p:cNvSpPr/>
                  <p:nvPr/>
                </p:nvSpPr>
                <p:spPr>
                  <a:xfrm>
                    <a:off x="957960" y="20383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6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21" name="직사각형 19"/>
                <p:cNvSpPr/>
                <p:nvPr/>
              </p:nvSpPr>
              <p:spPr>
                <a:xfrm>
                  <a:off x="1812600" y="1928880"/>
                  <a:ext cx="205380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전향적 전이와 역행적 전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22" name="직선 연결선 17"/>
              <p:cNvSpPr/>
              <p:nvPr/>
            </p:nvSpPr>
            <p:spPr>
              <a:xfrm>
                <a:off x="4786200" y="2214720"/>
                <a:ext cx="37162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3" name="그룹 90"/>
          <p:cNvGrpSpPr/>
          <p:nvPr/>
        </p:nvGrpSpPr>
        <p:grpSpPr>
          <a:xfrm>
            <a:off x="1152720" y="2714760"/>
            <a:ext cx="7823160" cy="2132280"/>
            <a:chOff x="1152720" y="2714760"/>
            <a:chExt cx="7823160" cy="2132280"/>
          </a:xfrm>
        </p:grpSpPr>
        <p:grpSp>
          <p:nvGrpSpPr>
            <p:cNvPr id="1024" name="그룹 142"/>
            <p:cNvGrpSpPr/>
            <p:nvPr/>
          </p:nvGrpSpPr>
          <p:grpSpPr>
            <a:xfrm>
              <a:off x="1152720" y="2714760"/>
              <a:ext cx="3091320" cy="505440"/>
              <a:chOff x="1152720" y="2714760"/>
              <a:chExt cx="3091320" cy="505440"/>
            </a:xfrm>
          </p:grpSpPr>
          <p:grpSp>
            <p:nvGrpSpPr>
              <p:cNvPr id="1025" name="그룹 97"/>
              <p:cNvGrpSpPr/>
              <p:nvPr/>
            </p:nvGrpSpPr>
            <p:grpSpPr>
              <a:xfrm>
                <a:off x="1152720" y="2779560"/>
                <a:ext cx="295200" cy="337320"/>
                <a:chOff x="1152720" y="2779560"/>
                <a:chExt cx="295200" cy="337320"/>
              </a:xfrm>
            </p:grpSpPr>
            <p:pic>
              <p:nvPicPr>
                <p:cNvPr id="1026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158840" y="2828160"/>
                  <a:ext cx="284040" cy="286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7" name="TextBox 146"/>
                <p:cNvSpPr/>
                <p:nvPr/>
              </p:nvSpPr>
              <p:spPr>
                <a:xfrm>
                  <a:off x="1152720" y="2779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28" name="직사각형 32"/>
              <p:cNvSpPr/>
              <p:nvPr/>
            </p:nvSpPr>
            <p:spPr>
              <a:xfrm>
                <a:off x="1440720" y="2714760"/>
                <a:ext cx="28033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전향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proactive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29" name="직선 연결선 26"/>
            <p:cNvSpPr/>
            <p:nvPr/>
          </p:nvSpPr>
          <p:spPr>
            <a:xfrm>
              <a:off x="4643640" y="300024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30" name="그룹 114"/>
            <p:cNvGrpSpPr/>
            <p:nvPr/>
          </p:nvGrpSpPr>
          <p:grpSpPr>
            <a:xfrm>
              <a:off x="1376280" y="3107160"/>
              <a:ext cx="7599600" cy="1739880"/>
              <a:chOff x="1376280" y="3107160"/>
              <a:chExt cx="7599600" cy="1739880"/>
            </a:xfrm>
          </p:grpSpPr>
          <p:sp>
            <p:nvSpPr>
              <p:cNvPr id="1031" name="직사각형 28"/>
              <p:cNvSpPr/>
              <p:nvPr/>
            </p:nvSpPr>
            <p:spPr>
              <a:xfrm>
                <a:off x="1538640" y="3107160"/>
                <a:ext cx="743724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이 후속학습에 영향을 미치는 현상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전향적 정적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전향적 부적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32" name="타원 29"/>
              <p:cNvGrpSpPr/>
              <p:nvPr/>
            </p:nvGrpSpPr>
            <p:grpSpPr>
              <a:xfrm>
                <a:off x="1376280" y="3279600"/>
                <a:ext cx="223560" cy="231480"/>
                <a:chOff x="1376280" y="3279600"/>
                <a:chExt cx="223560" cy="231480"/>
              </a:xfrm>
            </p:grpSpPr>
            <p:pic>
              <p:nvPicPr>
                <p:cNvPr id="1033" name="타원 2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376280" y="327960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34" name=""/>
                <p:cNvSpPr/>
                <p:nvPr/>
              </p:nvSpPr>
              <p:spPr>
                <a:xfrm rot="10800000">
                  <a:off x="1455480" y="33357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1035" name="TextBox 12" descr=""/>
          <p:cNvPicPr/>
          <p:nvPr/>
        </p:nvPicPr>
        <p:blipFill>
          <a:blip r:embed="rId5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36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03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38" name="직사각형 13"/>
              <p:cNvSpPr/>
              <p:nvPr/>
            </p:nvSpPr>
            <p:spPr>
              <a:xfrm>
                <a:off x="1295640" y="138564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4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4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43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4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45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6" name="그룹 90"/>
          <p:cNvGrpSpPr/>
          <p:nvPr/>
        </p:nvGrpSpPr>
        <p:grpSpPr>
          <a:xfrm>
            <a:off x="1155600" y="4640400"/>
            <a:ext cx="7820280" cy="1309320"/>
            <a:chOff x="1155600" y="4640400"/>
            <a:chExt cx="7820280" cy="1309320"/>
          </a:xfrm>
        </p:grpSpPr>
        <p:grpSp>
          <p:nvGrpSpPr>
            <p:cNvPr id="1047" name="그룹 142"/>
            <p:cNvGrpSpPr/>
            <p:nvPr/>
          </p:nvGrpSpPr>
          <p:grpSpPr>
            <a:xfrm>
              <a:off x="1155600" y="4640400"/>
              <a:ext cx="3226320" cy="505440"/>
              <a:chOff x="1155600" y="4640400"/>
              <a:chExt cx="3226320" cy="505440"/>
            </a:xfrm>
          </p:grpSpPr>
          <p:grpSp>
            <p:nvGrpSpPr>
              <p:cNvPr id="1048" name="그룹 97"/>
              <p:cNvGrpSpPr/>
              <p:nvPr/>
            </p:nvGrpSpPr>
            <p:grpSpPr>
              <a:xfrm>
                <a:off x="1155600" y="4705200"/>
                <a:ext cx="305640" cy="337320"/>
                <a:chOff x="1155600" y="4705200"/>
                <a:chExt cx="305640" cy="337320"/>
              </a:xfrm>
            </p:grpSpPr>
            <p:pic>
              <p:nvPicPr>
                <p:cNvPr id="1049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158840" y="4754520"/>
                  <a:ext cx="286200" cy="286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50" name="TextBox 146"/>
                <p:cNvSpPr/>
                <p:nvPr/>
              </p:nvSpPr>
              <p:spPr>
                <a:xfrm>
                  <a:off x="1155600" y="470520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1" name="직사각형 42"/>
              <p:cNvSpPr/>
              <p:nvPr/>
            </p:nvSpPr>
            <p:spPr>
              <a:xfrm>
                <a:off x="1432440" y="4640400"/>
                <a:ext cx="294948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역행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retroactive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2" name="직선 연결선 37"/>
            <p:cNvSpPr/>
            <p:nvPr/>
          </p:nvSpPr>
          <p:spPr>
            <a:xfrm>
              <a:off x="4643640" y="492588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53" name="그룹 114"/>
            <p:cNvGrpSpPr/>
            <p:nvPr/>
          </p:nvGrpSpPr>
          <p:grpSpPr>
            <a:xfrm>
              <a:off x="1376280" y="5032800"/>
              <a:ext cx="7599600" cy="916920"/>
              <a:chOff x="1376280" y="5032800"/>
              <a:chExt cx="7599600" cy="916920"/>
            </a:xfrm>
          </p:grpSpPr>
          <p:sp>
            <p:nvSpPr>
              <p:cNvPr id="1054" name="직사각형 39"/>
              <p:cNvSpPr/>
              <p:nvPr/>
            </p:nvSpPr>
            <p:spPr>
              <a:xfrm>
                <a:off x="1538640" y="5032800"/>
                <a:ext cx="743724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현재의 학습활동이 과거에 학습한 활동을 이해하는 데 영향을 주는 현상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오늘 신문에서 읽은 내용으로 어제 수업 내용을 더 정확하게 이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55" name="타원 40"/>
              <p:cNvGrpSpPr/>
              <p:nvPr/>
            </p:nvGrpSpPr>
            <p:grpSpPr>
              <a:xfrm>
                <a:off x="1376280" y="5205960"/>
                <a:ext cx="223560" cy="231480"/>
                <a:chOff x="1376280" y="5205960"/>
                <a:chExt cx="223560" cy="231480"/>
              </a:xfrm>
            </p:grpSpPr>
            <p:pic>
              <p:nvPicPr>
                <p:cNvPr id="1056" name="타원 40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6280" y="520596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57" name=""/>
                <p:cNvSpPr/>
                <p:nvPr/>
              </p:nvSpPr>
              <p:spPr>
                <a:xfrm rot="10800000">
                  <a:off x="1455480" y="52614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8" name="TextBox 9" descr=""/>
          <p:cNvPicPr/>
          <p:nvPr/>
        </p:nvPicPr>
        <p:blipFill>
          <a:blip r:embed="rId1"/>
          <a:stretch/>
        </p:blipFill>
        <p:spPr>
          <a:xfrm>
            <a:off x="6576840" y="506520"/>
            <a:ext cx="232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59" name="그룹 35"/>
          <p:cNvGrpSpPr/>
          <p:nvPr/>
        </p:nvGrpSpPr>
        <p:grpSpPr>
          <a:xfrm>
            <a:off x="642960" y="1314360"/>
            <a:ext cx="8429760" cy="473040"/>
            <a:chOff x="642960" y="1314360"/>
            <a:chExt cx="8429760" cy="473040"/>
          </a:xfrm>
        </p:grpSpPr>
        <p:grpSp>
          <p:nvGrpSpPr>
            <p:cNvPr id="106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61" name="직사각형 13"/>
              <p:cNvSpPr/>
              <p:nvPr/>
            </p:nvSpPr>
            <p:spPr>
              <a:xfrm>
                <a:off x="1436760" y="138564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문제해결의 의미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6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6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66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6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68" name="TextBox 88"/>
            <p:cNvSpPr/>
            <p:nvPr/>
          </p:nvSpPr>
          <p:spPr>
            <a:xfrm>
              <a:off x="678600" y="13143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69" name="Picture 5" descr="233"/>
          <p:cNvPicPr/>
          <p:nvPr/>
        </p:nvPicPr>
        <p:blipFill>
          <a:blip r:embed="rId3"/>
          <a:srcRect l="2544" t="0" r="24313" b="0"/>
          <a:stretch/>
        </p:blipFill>
        <p:spPr>
          <a:xfrm>
            <a:off x="714240" y="2286000"/>
            <a:ext cx="8072640" cy="3500280"/>
          </a:xfrm>
          <a:prstGeom prst="rect">
            <a:avLst/>
          </a:prstGeom>
          <a:ln w="0">
            <a:noFill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</p:pic>
      <p:grpSp>
        <p:nvGrpSpPr>
          <p:cNvPr id="1070" name="그룹 13"/>
          <p:cNvGrpSpPr/>
          <p:nvPr/>
        </p:nvGrpSpPr>
        <p:grpSpPr>
          <a:xfrm>
            <a:off x="1071720" y="2308320"/>
            <a:ext cx="8072280" cy="2151360"/>
            <a:chOff x="1071720" y="2308320"/>
            <a:chExt cx="8072280" cy="2151360"/>
          </a:xfrm>
        </p:grpSpPr>
        <p:sp>
          <p:nvSpPr>
            <p:cNvPr id="1071" name="직사각형 51"/>
            <p:cNvSpPr/>
            <p:nvPr/>
          </p:nvSpPr>
          <p:spPr>
            <a:xfrm>
              <a:off x="1285920" y="2477880"/>
              <a:ext cx="7500960" cy="46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직사각형 40"/>
            <p:cNvSpPr/>
            <p:nvPr/>
          </p:nvSpPr>
          <p:spPr>
            <a:xfrm>
              <a:off x="1071720" y="2308320"/>
              <a:ext cx="8072280" cy="21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problem)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현재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상태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바람직한 상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목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간의 격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는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1)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현재상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에 제시된 조건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2)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목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을 통해 달성하려는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바람직한 상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 (3)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작 혹은 경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목표에 도달하려는 인지적 조작 혹은 활동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problem-solving)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현재 상태를 바람직한 상태로 바꾸는 과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73" name="타원 41"/>
            <p:cNvGrpSpPr/>
            <p:nvPr/>
          </p:nvGrpSpPr>
          <p:grpSpPr>
            <a:xfrm>
              <a:off x="1072800" y="2383560"/>
              <a:ext cx="231480" cy="237600"/>
              <a:chOff x="1072800" y="2383560"/>
              <a:chExt cx="231480" cy="237600"/>
            </a:xfrm>
          </p:grpSpPr>
          <p:pic>
            <p:nvPicPr>
              <p:cNvPr id="1074" name="타원 41" descr=""/>
              <p:cNvPicPr/>
              <p:nvPr/>
            </p:nvPicPr>
            <p:blipFill>
              <a:blip r:embed="rId4"/>
              <a:stretch/>
            </p:blipFill>
            <p:spPr>
              <a:xfrm>
                <a:off x="1072800" y="2383560"/>
                <a:ext cx="23148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5" name=""/>
              <p:cNvSpPr/>
              <p:nvPr/>
            </p:nvSpPr>
            <p:spPr>
              <a:xfrm rot="10800000">
                <a:off x="1157040" y="244296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6" name="타원 52"/>
            <p:cNvGrpSpPr/>
            <p:nvPr/>
          </p:nvGrpSpPr>
          <p:grpSpPr>
            <a:xfrm>
              <a:off x="1072800" y="4072680"/>
              <a:ext cx="231480" cy="231480"/>
              <a:chOff x="1072800" y="4072680"/>
              <a:chExt cx="231480" cy="231480"/>
            </a:xfrm>
          </p:grpSpPr>
          <p:pic>
            <p:nvPicPr>
              <p:cNvPr id="1077" name="타원 52" descr=""/>
              <p:cNvPicPr/>
              <p:nvPr/>
            </p:nvPicPr>
            <p:blipFill>
              <a:blip r:embed="rId5"/>
              <a:stretch/>
            </p:blipFill>
            <p:spPr>
              <a:xfrm>
                <a:off x="1072800" y="407268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8" name=""/>
              <p:cNvSpPr/>
              <p:nvPr/>
            </p:nvSpPr>
            <p:spPr>
              <a:xfrm rot="10800000">
                <a:off x="1157040" y="413100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79" name="그룹 56"/>
          <p:cNvGrpSpPr/>
          <p:nvPr/>
        </p:nvGrpSpPr>
        <p:grpSpPr>
          <a:xfrm>
            <a:off x="2286000" y="4786200"/>
            <a:ext cx="4572000" cy="571680"/>
            <a:chOff x="2286000" y="4786200"/>
            <a:chExt cx="4572000" cy="571680"/>
          </a:xfrm>
        </p:grpSpPr>
        <p:grpSp>
          <p:nvGrpSpPr>
            <p:cNvPr id="1080" name="모서리가 둥근 직사각형 53"/>
            <p:cNvGrpSpPr/>
            <p:nvPr/>
          </p:nvGrpSpPr>
          <p:grpSpPr>
            <a:xfrm>
              <a:off x="2286000" y="4786200"/>
              <a:ext cx="1728360" cy="571680"/>
              <a:chOff x="2286000" y="4786200"/>
              <a:chExt cx="1728360" cy="571680"/>
            </a:xfrm>
          </p:grpSpPr>
          <p:pic>
            <p:nvPicPr>
              <p:cNvPr id="1081" name="모서리가 둥근 직사각형 53" descr=""/>
              <p:cNvPicPr/>
              <p:nvPr/>
            </p:nvPicPr>
            <p:blipFill>
              <a:blip r:embed="rId6"/>
              <a:stretch/>
            </p:blipFill>
            <p:spPr>
              <a:xfrm>
                <a:off x="2286000" y="4786200"/>
                <a:ext cx="1728360" cy="571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2" name=""/>
              <p:cNvSpPr/>
              <p:nvPr/>
            </p:nvSpPr>
            <p:spPr>
              <a:xfrm>
                <a:off x="2433600" y="4886640"/>
                <a:ext cx="1437480" cy="35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현재 상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3" name="모서리가 둥근 직사각형 54"/>
            <p:cNvGrpSpPr/>
            <p:nvPr/>
          </p:nvGrpSpPr>
          <p:grpSpPr>
            <a:xfrm>
              <a:off x="5129640" y="4786200"/>
              <a:ext cx="1728360" cy="571680"/>
              <a:chOff x="5129640" y="4786200"/>
              <a:chExt cx="1728360" cy="571680"/>
            </a:xfrm>
          </p:grpSpPr>
          <p:pic>
            <p:nvPicPr>
              <p:cNvPr id="1084" name="모서리가 둥근 직사각형 54" descr=""/>
              <p:cNvPicPr/>
              <p:nvPr/>
            </p:nvPicPr>
            <p:blipFill>
              <a:blip r:embed="rId7"/>
              <a:stretch/>
            </p:blipFill>
            <p:spPr>
              <a:xfrm>
                <a:off x="5129640" y="4786200"/>
                <a:ext cx="1728360" cy="571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5" name=""/>
              <p:cNvSpPr/>
              <p:nvPr/>
            </p:nvSpPr>
            <p:spPr>
              <a:xfrm>
                <a:off x="5278320" y="4886640"/>
                <a:ext cx="1437480" cy="35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목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6" name="오른쪽 화살표 55"/>
            <p:cNvGrpSpPr/>
            <p:nvPr/>
          </p:nvGrpSpPr>
          <p:grpSpPr>
            <a:xfrm>
              <a:off x="4239720" y="4947120"/>
              <a:ext cx="739800" cy="254160"/>
              <a:chOff x="4239720" y="4947120"/>
              <a:chExt cx="739800" cy="254160"/>
            </a:xfrm>
          </p:grpSpPr>
          <p:pic>
            <p:nvPicPr>
              <p:cNvPr id="1087" name="오른쪽 화살표 55" descr=""/>
              <p:cNvPicPr/>
              <p:nvPr/>
            </p:nvPicPr>
            <p:blipFill>
              <a:blip r:embed="rId8"/>
              <a:stretch/>
            </p:blipFill>
            <p:spPr>
              <a:xfrm>
                <a:off x="4239720" y="4947120"/>
                <a:ext cx="739800" cy="25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8" name=""/>
              <p:cNvSpPr/>
              <p:nvPr/>
            </p:nvSpPr>
            <p:spPr>
              <a:xfrm>
                <a:off x="4303800" y="5016960"/>
                <a:ext cx="558720" cy="7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9" name="TextBox 9" descr=""/>
          <p:cNvPicPr/>
          <p:nvPr/>
        </p:nvPicPr>
        <p:blipFill>
          <a:blip r:embed="rId1"/>
          <a:stretch/>
        </p:blipFill>
        <p:spPr>
          <a:xfrm>
            <a:off x="6576840" y="506520"/>
            <a:ext cx="232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90" name="그룹 26"/>
          <p:cNvGrpSpPr/>
          <p:nvPr/>
        </p:nvGrpSpPr>
        <p:grpSpPr>
          <a:xfrm>
            <a:off x="928800" y="1895400"/>
            <a:ext cx="7505640" cy="4415040"/>
            <a:chOff x="928800" y="1895400"/>
            <a:chExt cx="7505640" cy="4415040"/>
          </a:xfrm>
        </p:grpSpPr>
        <p:sp>
          <p:nvSpPr>
            <p:cNvPr id="1091" name="AutoShape 4"/>
            <p:cNvSpPr/>
            <p:nvPr/>
          </p:nvSpPr>
          <p:spPr>
            <a:xfrm>
              <a:off x="5639040" y="3643200"/>
              <a:ext cx="2728800" cy="26672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ef2cc"/>
                </a:gs>
              </a:gsLst>
              <a:lin ang="2700000"/>
            </a:gradFill>
            <a:ln w="38160">
              <a:solidFill>
                <a:srgbClr val="969696"/>
              </a:solidFill>
              <a:miter/>
            </a:ln>
            <a:effectLst>
              <a:outerShdw dist="91658" dir="3382340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Text Box 5"/>
            <p:cNvSpPr/>
            <p:nvPr/>
          </p:nvSpPr>
          <p:spPr>
            <a:xfrm>
              <a:off x="5943600" y="3680640"/>
              <a:ext cx="2057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비구조화 문제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AutoShape 6"/>
            <p:cNvSpPr/>
            <p:nvPr/>
          </p:nvSpPr>
          <p:spPr>
            <a:xfrm>
              <a:off x="928800" y="3619440"/>
              <a:ext cx="2728800" cy="26672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9e4ff"/>
                </a:gs>
              </a:gsLst>
              <a:lin ang="2700000"/>
            </a:gradFill>
            <a:ln w="38160">
              <a:solidFill>
                <a:srgbClr val="969696"/>
              </a:solidFill>
              <a:miter/>
            </a:ln>
            <a:effectLst>
              <a:outerShdw dist="91658" dir="3382340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Text Box 7"/>
            <p:cNvSpPr/>
            <p:nvPr/>
          </p:nvSpPr>
          <p:spPr>
            <a:xfrm>
              <a:off x="1214280" y="3702600"/>
              <a:ext cx="203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구조화 문제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AutoShape 8"/>
            <p:cNvSpPr/>
            <p:nvPr/>
          </p:nvSpPr>
          <p:spPr>
            <a:xfrm>
              <a:off x="3451320" y="3519360"/>
              <a:ext cx="909360" cy="124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Freeform 9"/>
            <p:cNvSpPr/>
            <p:nvPr/>
          </p:nvSpPr>
          <p:spPr>
            <a:xfrm>
              <a:off x="3451320" y="3522600"/>
              <a:ext cx="903240" cy="1241280"/>
            </a:xfrm>
            <a:prstGeom prst="pie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aedfe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AutoShape 10"/>
            <p:cNvSpPr/>
            <p:nvPr/>
          </p:nvSpPr>
          <p:spPr>
            <a:xfrm flipH="1">
              <a:off x="4945320" y="3519360"/>
              <a:ext cx="909360" cy="124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Freeform 11"/>
            <p:cNvSpPr/>
            <p:nvPr/>
          </p:nvSpPr>
          <p:spPr>
            <a:xfrm flipH="1">
              <a:off x="4928400" y="3522600"/>
              <a:ext cx="903240" cy="1241280"/>
            </a:xfrm>
            <a:prstGeom prst="pie">
              <a:avLst/>
            </a:prstGeom>
            <a:gradFill rotWithShape="0">
              <a:gsLst>
                <a:gs pos="0">
                  <a:srgbClr val="ff9966"/>
                </a:gs>
                <a:gs pos="100000">
                  <a:srgbClr val="ffdfc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9" name="Group 12"/>
            <p:cNvGrpSpPr/>
            <p:nvPr/>
          </p:nvGrpSpPr>
          <p:grpSpPr>
            <a:xfrm>
              <a:off x="3170160" y="1895400"/>
              <a:ext cx="2998440" cy="1600920"/>
              <a:chOff x="3170160" y="1895400"/>
              <a:chExt cx="2998440" cy="1600920"/>
            </a:xfrm>
          </p:grpSpPr>
          <p:grpSp>
            <p:nvGrpSpPr>
              <p:cNvPr id="1100" name="Group 13"/>
              <p:cNvGrpSpPr/>
              <p:nvPr/>
            </p:nvGrpSpPr>
            <p:grpSpPr>
              <a:xfrm>
                <a:off x="3170160" y="2037960"/>
                <a:ext cx="2998440" cy="1458360"/>
                <a:chOff x="3170160" y="2037960"/>
                <a:chExt cx="2998440" cy="1458360"/>
              </a:xfrm>
            </p:grpSpPr>
            <p:sp>
              <p:nvSpPr>
                <p:cNvPr id="1101" name="Oval 14"/>
                <p:cNvSpPr/>
                <p:nvPr/>
              </p:nvSpPr>
              <p:spPr>
                <a:xfrm>
                  <a:off x="3202920" y="2084400"/>
                  <a:ext cx="2965680" cy="141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204882"/>
                    </a:gs>
                    <a:gs pos="100000">
                      <a:srgbClr val="3371cd"/>
                    </a:gs>
                  </a:gsLst>
                  <a:lin ang="2700000"/>
                </a:gradFill>
                <a:ln w="0">
                  <a:noFill/>
                </a:ln>
                <a:effectLst>
                  <a:outerShdw dist="17819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2" name="Oval 15"/>
                <p:cNvSpPr/>
                <p:nvPr/>
              </p:nvSpPr>
              <p:spPr>
                <a:xfrm>
                  <a:off x="3170160" y="2037960"/>
                  <a:ext cx="2965680" cy="1411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5c0e9"/>
                    </a:gs>
                    <a:gs pos="100000">
                      <a:srgbClr val="3371cd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03" name="Oval 16"/>
              <p:cNvSpPr/>
              <p:nvPr/>
            </p:nvSpPr>
            <p:spPr>
              <a:xfrm>
                <a:off x="3311640" y="1895400"/>
                <a:ext cx="2684520" cy="1341360"/>
              </a:xfrm>
              <a:prstGeom prst="ellipse">
                <a:avLst/>
              </a:prstGeom>
              <a:gradFill rotWithShape="0">
                <a:gsLst>
                  <a:gs pos="0">
                    <a:srgbClr val="6a583b"/>
                  </a:gs>
                  <a:gs pos="100000">
                    <a:srgbClr val="e6bf8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4" name="Oval 17"/>
              <p:cNvSpPr/>
              <p:nvPr/>
            </p:nvSpPr>
            <p:spPr>
              <a:xfrm>
                <a:off x="3346560" y="1902960"/>
                <a:ext cx="2619360" cy="1307880"/>
              </a:xfrm>
              <a:prstGeom prst="ellipse">
                <a:avLst/>
              </a:prstGeom>
              <a:gradFill rotWithShape="0">
                <a:gsLst>
                  <a:gs pos="0">
                    <a:srgbClr val="e6bf80">
                      <a:alpha val="0"/>
                    </a:srgbClr>
                  </a:gs>
                  <a:gs pos="100000">
                    <a:srgbClr val="f6e9d3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5" name="Oval 18"/>
              <p:cNvSpPr/>
              <p:nvPr/>
            </p:nvSpPr>
            <p:spPr>
              <a:xfrm>
                <a:off x="3373560" y="1915920"/>
                <a:ext cx="2492280" cy="1221840"/>
              </a:xfrm>
              <a:prstGeom prst="ellipse">
                <a:avLst/>
              </a:prstGeom>
              <a:gradFill rotWithShape="0">
                <a:gsLst>
                  <a:gs pos="0">
                    <a:srgbClr val="b69765"/>
                  </a:gs>
                  <a:gs pos="100000">
                    <a:srgbClr val="e6bf80">
                      <a:alpha val="48235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6" name="Oval 19"/>
              <p:cNvSpPr/>
              <p:nvPr/>
            </p:nvSpPr>
            <p:spPr>
              <a:xfrm>
                <a:off x="3505320" y="1942920"/>
                <a:ext cx="2193840" cy="990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6bf80">
                      <a:alpha val="38039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7" name="Text Box 20"/>
            <p:cNvSpPr/>
            <p:nvPr/>
          </p:nvSpPr>
          <p:spPr>
            <a:xfrm>
              <a:off x="4082400" y="2262240"/>
              <a:ext cx="1174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의 종류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Text Box 7"/>
            <p:cNvSpPr/>
            <p:nvPr/>
          </p:nvSpPr>
          <p:spPr>
            <a:xfrm>
              <a:off x="1137960" y="4401360"/>
              <a:ext cx="2576520" cy="11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답이 분명히 존재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에 필요한 정보가 모두 존재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책이 분명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Text Box 7"/>
            <p:cNvSpPr/>
            <p:nvPr/>
          </p:nvSpPr>
          <p:spPr>
            <a:xfrm>
              <a:off x="5857920" y="4401360"/>
              <a:ext cx="2576520" cy="11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답이 모호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에 필요한 정보가 부족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책이 분명하지 않음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0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11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12" name="직사각형 13"/>
              <p:cNvSpPr/>
              <p:nvPr/>
            </p:nvSpPr>
            <p:spPr>
              <a:xfrm>
                <a:off x="1332360" y="1385640"/>
                <a:ext cx="1008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문제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3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1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1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117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1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19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0" name="타원 40"/>
          <p:cNvGrpSpPr/>
          <p:nvPr/>
        </p:nvGrpSpPr>
        <p:grpSpPr>
          <a:xfrm>
            <a:off x="987480" y="4486320"/>
            <a:ext cx="201600" cy="208080"/>
            <a:chOff x="987480" y="4486320"/>
            <a:chExt cx="201600" cy="208080"/>
          </a:xfrm>
        </p:grpSpPr>
        <p:pic>
          <p:nvPicPr>
            <p:cNvPr id="1121" name="타원 40" descr=""/>
            <p:cNvPicPr/>
            <p:nvPr/>
          </p:nvPicPr>
          <p:blipFill>
            <a:blip r:embed="rId3"/>
            <a:stretch/>
          </p:blipFill>
          <p:spPr>
            <a:xfrm>
              <a:off x="987480" y="4486320"/>
              <a:ext cx="201600" cy="2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2" name=""/>
            <p:cNvSpPr/>
            <p:nvPr/>
          </p:nvSpPr>
          <p:spPr>
            <a:xfrm rot="10800000">
              <a:off x="1068120" y="4541400"/>
              <a:ext cx="50760" cy="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3" name="타원 41"/>
          <p:cNvGrpSpPr/>
          <p:nvPr/>
        </p:nvGrpSpPr>
        <p:grpSpPr>
          <a:xfrm>
            <a:off x="987480" y="4883040"/>
            <a:ext cx="201600" cy="206640"/>
            <a:chOff x="987480" y="4883040"/>
            <a:chExt cx="201600" cy="206640"/>
          </a:xfrm>
        </p:grpSpPr>
        <p:pic>
          <p:nvPicPr>
            <p:cNvPr id="1124" name="타원 41" descr=""/>
            <p:cNvPicPr/>
            <p:nvPr/>
          </p:nvPicPr>
          <p:blipFill>
            <a:blip r:embed="rId4"/>
            <a:stretch/>
          </p:blipFill>
          <p:spPr>
            <a:xfrm>
              <a:off x="987480" y="4883040"/>
              <a:ext cx="20160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5" name=""/>
            <p:cNvSpPr/>
            <p:nvPr/>
          </p:nvSpPr>
          <p:spPr>
            <a:xfrm rot="10800000">
              <a:off x="1068120" y="4938480"/>
              <a:ext cx="50760" cy="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6" name="타원 42"/>
          <p:cNvGrpSpPr/>
          <p:nvPr/>
        </p:nvGrpSpPr>
        <p:grpSpPr>
          <a:xfrm>
            <a:off x="987480" y="5529240"/>
            <a:ext cx="201600" cy="206280"/>
            <a:chOff x="987480" y="5529240"/>
            <a:chExt cx="201600" cy="206280"/>
          </a:xfrm>
        </p:grpSpPr>
        <p:pic>
          <p:nvPicPr>
            <p:cNvPr id="1127" name="타원 42" descr=""/>
            <p:cNvPicPr/>
            <p:nvPr/>
          </p:nvPicPr>
          <p:blipFill>
            <a:blip r:embed="rId5"/>
            <a:stretch/>
          </p:blipFill>
          <p:spPr>
            <a:xfrm>
              <a:off x="987480" y="5529240"/>
              <a:ext cx="201600" cy="20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8" name=""/>
            <p:cNvSpPr/>
            <p:nvPr/>
          </p:nvSpPr>
          <p:spPr>
            <a:xfrm rot="10800000">
              <a:off x="1068120" y="5581440"/>
              <a:ext cx="50760" cy="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9" name="타원 43"/>
          <p:cNvGrpSpPr/>
          <p:nvPr/>
        </p:nvGrpSpPr>
        <p:grpSpPr>
          <a:xfrm>
            <a:off x="5718240" y="5522760"/>
            <a:ext cx="201600" cy="208080"/>
            <a:chOff x="5718240" y="5522760"/>
            <a:chExt cx="201600" cy="208080"/>
          </a:xfrm>
        </p:grpSpPr>
        <p:pic>
          <p:nvPicPr>
            <p:cNvPr id="1130" name="타원 43" descr=""/>
            <p:cNvPicPr/>
            <p:nvPr/>
          </p:nvPicPr>
          <p:blipFill>
            <a:blip r:embed="rId6"/>
            <a:stretch/>
          </p:blipFill>
          <p:spPr>
            <a:xfrm>
              <a:off x="5718240" y="5522760"/>
              <a:ext cx="201600" cy="2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1" name=""/>
            <p:cNvSpPr/>
            <p:nvPr/>
          </p:nvSpPr>
          <p:spPr>
            <a:xfrm rot="10800000">
              <a:off x="5795640" y="5576760"/>
              <a:ext cx="50760" cy="5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2" name="타원 44"/>
          <p:cNvGrpSpPr/>
          <p:nvPr/>
        </p:nvGrpSpPr>
        <p:grpSpPr>
          <a:xfrm>
            <a:off x="5718240" y="4883040"/>
            <a:ext cx="201600" cy="206640"/>
            <a:chOff x="5718240" y="4883040"/>
            <a:chExt cx="201600" cy="206640"/>
          </a:xfrm>
        </p:grpSpPr>
        <p:pic>
          <p:nvPicPr>
            <p:cNvPr id="1133" name="타원 44" descr=""/>
            <p:cNvPicPr/>
            <p:nvPr/>
          </p:nvPicPr>
          <p:blipFill>
            <a:blip r:embed="rId7"/>
            <a:stretch/>
          </p:blipFill>
          <p:spPr>
            <a:xfrm>
              <a:off x="5718240" y="4883040"/>
              <a:ext cx="20160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4" name=""/>
            <p:cNvSpPr/>
            <p:nvPr/>
          </p:nvSpPr>
          <p:spPr>
            <a:xfrm rot="10800000">
              <a:off x="5795640" y="4933800"/>
              <a:ext cx="50760" cy="5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5" name="타원 45"/>
          <p:cNvGrpSpPr/>
          <p:nvPr/>
        </p:nvGrpSpPr>
        <p:grpSpPr>
          <a:xfrm>
            <a:off x="5718240" y="4492800"/>
            <a:ext cx="201600" cy="207720"/>
            <a:chOff x="5718240" y="4492800"/>
            <a:chExt cx="201600" cy="207720"/>
          </a:xfrm>
        </p:grpSpPr>
        <p:pic>
          <p:nvPicPr>
            <p:cNvPr id="1136" name="타원 45" descr=""/>
            <p:cNvPicPr/>
            <p:nvPr/>
          </p:nvPicPr>
          <p:blipFill>
            <a:blip r:embed="rId8"/>
            <a:stretch/>
          </p:blipFill>
          <p:spPr>
            <a:xfrm>
              <a:off x="5718240" y="4492800"/>
              <a:ext cx="201600" cy="20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7" name=""/>
            <p:cNvSpPr/>
            <p:nvPr/>
          </p:nvSpPr>
          <p:spPr>
            <a:xfrm rot="10800000">
              <a:off x="5795640" y="4544640"/>
              <a:ext cx="50760" cy="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8" name="직선 연결선 47"/>
          <p:cNvSpPr/>
          <p:nvPr/>
        </p:nvSpPr>
        <p:spPr>
          <a:xfrm>
            <a:off x="1143000" y="4116240"/>
            <a:ext cx="2286000" cy="180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직선 연결선 50"/>
          <p:cNvSpPr/>
          <p:nvPr/>
        </p:nvSpPr>
        <p:spPr>
          <a:xfrm>
            <a:off x="5857920" y="4116240"/>
            <a:ext cx="2286000" cy="180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0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1-25T01:00:20Z</dcterms:modified>
  <cp:revision>403</cp:revision>
  <dc:subject/>
  <dc:title>PowerPoint Template</dc:title>
</cp:coreProperties>
</file>