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13FFC7-0719-42BC-9FD5-D403A029D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99AC01-4419-4110-846E-6B96E7EB2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F3F01D-BCEA-4A28-AA38-709303887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AE8C7A-A07E-409F-891D-7EDBFA628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B1352-9DDC-4B07-A9FD-10C20C4FB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C0607-45CF-480C-8D44-3CEA3F7A1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C77D2-3C9B-4175-B78A-7F4BC51FF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95547-9BB6-48A9-9FA8-B08F00C64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77F6B-AA03-416A-A2E7-B9706C0DA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D1B21-168D-40EE-98F1-0BBA0D91F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E8983-F06E-4275-88B3-5892F1722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42D392-78FE-4D00-AC0F-28AF024C6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8D995-7EA7-4F11-9EC0-5E438EA27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C2BF6-C32E-487B-8793-6523C2268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B85D5-581A-4CB0-9842-FFB040C88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00271-9AD1-4C6F-9AD3-AE824001D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E6CD2-1551-4FF3-A403-00A524BD8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FD92FB-D220-48DD-80E8-C0F15C960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74B369-FF8A-4BD0-92BA-B4A5C2A4B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EA1DEC-63F3-4B3D-AF91-3A7D4B6CE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8BFF65-745D-4AEF-BF0B-CA2646056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7D8E9F-5E12-41AA-9D94-B05466B2A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C92851-A1D8-4A51-941F-A08E77E69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31576C-0119-48F7-87B1-F6530D05B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E403D-B26B-40E5-B928-B10E48C73D9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CA79B-64C4-4F1B-A936-D68AD603EF8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1844640"/>
            <a:ext cx="784692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fdef6"/>
                </a:solidFill>
                <a:latin typeface="굴림"/>
              </a:rPr>
              <a:t>도료의 종류</a:t>
            </a:r>
            <a:br>
              <a:rPr sz="4400"/>
            </a:br>
            <a:r>
              <a:rPr b="0" lang="en-US" sz="32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dfdef6"/>
                </a:solidFill>
                <a:latin typeface="굴림"/>
              </a:rPr>
              <a:t>특수도료</a:t>
            </a:r>
            <a:endParaRPr b="0" lang="en-US" sz="32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기를 제어하여 정보를 관리하고 안전을 보장해주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675"/>
              </a:spcBef>
              <a:buSzPct val="10281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성분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Fe</a:t>
            </a:r>
            <a:r>
              <a:rPr b="1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1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CrO</a:t>
            </a:r>
            <a:r>
              <a:rPr b="1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Fe)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이 주성분인 금속성 분말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바인더 수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첨가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용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675"/>
              </a:spcBef>
              <a:buSzPct val="10281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테이프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오디오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비디오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컴퓨터 테이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디스크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하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프로피 디스크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카드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신용카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철도승차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기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속도로 통행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화카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기시트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기드럼 등과 같은 자기기록 매체 분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자성도료 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화합물의 열분해에 의한 불가역적인 색의 변화를 이용한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온도의 변화에 따라 색이 변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특정온도에 따라 색의 변화가 뚜렷한 화합물이나 용융에 의해 상태가 변하는 화합물이 안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안료로 코발트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니켈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동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크롬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망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납 등이 이용되며 사용되는 화합물의 성분 중에는 아민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암모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탄산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브롬산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수산기를 함유한 것이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식품의 안전 관리를 위해 많이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시온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가열이나 전자파 조사에 의한 도막 경화과정 중에 수백 마이크론 정도로 부풀어  입체감을 나타내주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미끄럼 방지 효과와 큐션성을 기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발포성 방화도료로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방화도료는 발포용원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착색원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바인더로 구성되며 방화성능 향상을 위해 인산을 주로 이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종이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섬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피혁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금속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합성수지 와 같은 소재에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발포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 및 라디오파 차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대전방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표면오염 방지에 사용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기기의 경량화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단순화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에너지 주파수 분포의 고밀도화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플라스틱 재료 이용의 확대 등이 이루어짐에 따라 더욱 효과적이고 종합적인 개념의 전자파 차폐기술이 요구되며 이 때문에 전자파차폐 도료가 주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장비에 주로 사용되며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전기 장해방지용 포장재료 이용을 위한 연구가 진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도전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81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유해가스의 발생을 동반하는 연소의 진행을 막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발포성 방화도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기재가 가연성인 경우 기재의 난연화가 목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비발포성 도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기재가 불연성인 경우 도막의 단열작용으로 기재의 열 노화를 방지하여 가연물로 인한 연소를 방지하는 것이 목적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제조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초산비닐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염화비닐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아크릴 등의 난연성 바인더에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산화 안티몬과 같은 난연조제물를 첨가하여 제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완전 불연성도료는 무기질바인더에 무기질 안료를 배합시킨 것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화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의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제어를 통해 기술적으로 방음을 할 수 있도록 한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방음종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차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전달경로에 벽을 세워 음을 반사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차단하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흡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에너지를 흡수하여 소멸시키거나 작게 만드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방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원인을 억제 함에 의하여 음의 발생을 억제하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제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어떠한 진동에 의해 발생되기에 진동을 차단하거나 흡수함에 의해 음의 방출을 감소시키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공장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교통기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확청장치나 악기연주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학교나 유치원에서의 어린이 소리 등을 제어하는데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음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청강 등의 구조재에 손상을 입히는 녹을 방지하기 위해 사용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불소수지도료와 세라믹도료가 각광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1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년에서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0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년으로 도막수명을 연장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세라믹도료의 경우 세라믹 안료와 알키드수지 또는 염화고무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청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배관을 통해 전달되는 진동에 의한 소음을 방지하기 위해 적용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아스팔트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에폭시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프탈산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에멀션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염화비닐계 등이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두꺼운 도막을 형성하기에 다량의 충전제가 첨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석면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섬유 등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안료로 탄산칼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활석 등이 이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빌딩의 수도관이나 가스관에 적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차량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선박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동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기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건축 및 그 밖에 여러 분야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진도료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1T06:05:51Z</dcterms:created>
  <dc:creator>In</dc:creator>
  <dc:description/>
  <dc:language>en-US</dc:language>
  <cp:lastModifiedBy>Daniel Yang</cp:lastModifiedBy>
  <dcterms:modified xsi:type="dcterms:W3CDTF">2009-09-13T09:10:12Z</dcterms:modified>
  <cp:revision>69</cp:revision>
  <dc:subject/>
  <dc:title>목질재료학 및 실험</dc:title>
</cp:coreProperties>
</file>