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6D2BF-6DBE-4BD4-B209-2A754ABB7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D30EA-8E3C-4287-B994-9C03E88F9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FF596-303E-47BB-9878-C8822E3B3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691D5-BED6-486B-9624-9D8AE466B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8D768-00C8-4E8A-8272-F3387CAB5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A2D57-05D8-4326-8A80-DF183E001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E2CF7-AE96-4304-B5A4-C6D48CA5C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404D4-E1C3-4613-BC63-83CB3F877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31159-374F-43B3-B910-D5207B30A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F07B5-5A23-4FF0-8704-DCC5335E0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9BDAD-9E5F-4D1A-B23F-128D22CD5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80BAC-B16A-4A70-B534-2625DB06E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BE27E-2997-4EDC-B6C3-67E2C5BA22E2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46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대학교병원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80520" y="4436640"/>
            <a:ext cx="8533080" cy="186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생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김은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혜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기간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8.12.29 ~ 09.02.20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교 통 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치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광역시 서구 구덕로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5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하철 이용시 편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 지하철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선 토성동역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번 출구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 내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화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머리망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블라우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카라있는 면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초기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퇴근시 정장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후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편안한 복장으로 출퇴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말 휴무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5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+</a:t>
            </a:r>
            <a:r>
              <a:rPr b="1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α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원 식당에서 해결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권구입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,5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물리치료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장님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실장님 외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5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8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SOAP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노트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주일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씩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첫 주 제외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약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에 한번 걷어서 검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과제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논문 번역 발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실습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8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실습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을 접할 수 있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직접 환자를  다룰 수 있는 기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밥이 비싸고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이 좁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Windows XP</cp:lastModifiedBy>
  <dcterms:modified xsi:type="dcterms:W3CDTF">2009-04-09T08:11:46Z</dcterms:modified>
  <cp:revision>12</cp:revision>
  <dc:subject/>
  <dc:title>영남대학교의료원</dc:title>
</cp:coreProperties>
</file>