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5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63.xml.rels" ContentType="application/vnd.openxmlformats-package.relationships+xml"/>
  <Override PartName="/ppt/slides/_rels/slide5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3A05EC-BE60-4EF6-90B7-4F1F487DF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ECDC28-54E6-4C99-8E88-8F0D92026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910CE6-079D-4BA6-82B7-29C7F2AA7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FA732B-C4B3-4CC8-8CB0-56820DA00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07B5C6-AC3B-4F60-A7E2-105536267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35E72C-5F26-4BB6-BECF-08949C7CE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F13741-C746-47A9-8E29-BBC428003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24EBC3-58B2-40A7-B9BC-1475C5556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76B79B-2141-4958-8234-7341DB62E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26845C-E6F5-4EA5-9214-FCCCAF97F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879F62-EDFE-4157-A623-FA72D8178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1758B3-F9FB-4458-A9FE-58A9F6188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638680" y="4952880"/>
            <a:ext cx="3241800" cy="1817640"/>
            <a:chOff x="5638680" y="4952880"/>
            <a:chExt cx="3241800" cy="1817640"/>
          </a:xfrm>
        </p:grpSpPr>
        <p:sp>
          <p:nvSpPr>
            <p:cNvPr id="1" name=""/>
            <p:cNvSpPr/>
            <p:nvPr/>
          </p:nvSpPr>
          <p:spPr>
            <a:xfrm>
              <a:off x="5638680" y="6324480"/>
              <a:ext cx="3202200" cy="2476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rot="21132000">
              <a:off x="7391520" y="6477120"/>
              <a:ext cx="1482480" cy="19368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7010280" y="4952880"/>
              <a:ext cx="1828800" cy="1482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ftr" idx="1"/>
          </p:nvPr>
        </p:nvSpPr>
        <p:spPr>
          <a:xfrm>
            <a:off x="62481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ko-KR" sz="1400" spc="-1" strike="noStrike">
                <a:solidFill>
                  <a:srgbClr val="b2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&lt;footer&gt;</a:t>
            </a: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Written by Seok-cheol Cho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743040" indent="-285840">
              <a:spcBef>
                <a:spcPts val="649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1143000" indent="-228600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600200" indent="-228600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2057400" indent="-228600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0" y="0"/>
            <a:ext cx="8944920" cy="3993120"/>
            <a:chOff x="0" y="0"/>
            <a:chExt cx="8944920" cy="3993120"/>
          </a:xfrm>
        </p:grpSpPr>
        <p:sp>
          <p:nvSpPr>
            <p:cNvPr id="44" name=""/>
            <p:cNvSpPr/>
            <p:nvPr/>
          </p:nvSpPr>
          <p:spPr>
            <a:xfrm>
              <a:off x="3200400" y="3581280"/>
              <a:ext cx="5638680" cy="3682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 rot="21132000">
              <a:off x="6248520" y="3200400"/>
              <a:ext cx="2666880" cy="61452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809880" cy="274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A137B-97CA-435E-8ED5-9920CCEFCE81}" type="slidenum"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5638680" y="6324480"/>
            <a:ext cx="3202200" cy="247680"/>
          </a:xfrm>
          <a:prstGeom prst="ellipse">
            <a:avLst/>
          </a:prstGeom>
          <a:solidFill>
            <a:srgbClr val="9f7a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 rot="21132000">
            <a:off x="7391520" y="6477120"/>
            <a:ext cx="1482480" cy="193680"/>
          </a:xfrm>
          <a:prstGeom prst="ellipse">
            <a:avLst/>
          </a:prstGeom>
          <a:solidFill>
            <a:srgbClr val="e5802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7010280" y="4952880"/>
            <a:ext cx="1828800" cy="14828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914400" algn="ctr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371600" algn="ctr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1828800" algn="ctr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5500"/>
                </a:solidFill>
                <a:latin typeface="굴림"/>
              </a:rPr>
              <a:t>Microwave Diathermy</a:t>
            </a: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3. </a:t>
            </a: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극초단파 투열의 치료효과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지연된 치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의 개방성 상처 치유를 위해 피부의 순환을 증가 시키는 것이 도움이  되나 열에 대한 혈관의 정상적인 반사가 전재되어야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관반응이 충분 치 않을때는 반사적 반응에 의한 혈관확장을 유도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감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손상부위에 백혈구와 항체가 증가되어 만성 감염을 억제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섬유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열은 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흔조직과 같은 섬유성 조직의 신장성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 정도 증가시킨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그 효과는 치료범위에서의 온도의 증가에 의해 발생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* stretching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태에서 조사하는 것이 좋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4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160" y="914400"/>
            <a:ext cx="79246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-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생리적 온열 효과가 최대로 나타날때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5-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따라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전후가 적당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②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가 적거나 급성인 경우 더 짧게 적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③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횟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매일 또는 하루 건너서 실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etc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은 부위 치료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1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부위가 큰 경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-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팔다리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내장기 치료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Edel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은 급성기에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-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아급성기에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-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권장하였으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Barth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Kern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은 순환 증진을 목적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로 치료 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상을 추천하였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4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강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가 느끼는 치료감이 편안한 온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= 0.1w/cm2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정도로 치료하며 급성질환자는 만성질환자 보다 약한 강도로 적용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의 감각은 정상이어야 한다          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빈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매일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회 혹은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의 치료에 대한 반응에 따라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방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면만 조사하는 전자파 복사 방식의 치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사거리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준 거리로는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1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거리에서 실시하면 무난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표면과 치료표면은 절대 접촉 시켜서는 안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촉 감염과 땀으로 인한  화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한 치료 효과를 얻기 위해서 출력은 높이고 거리는 짧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경미한 가열 효과를 얻기 위해서는 출력은 낮추고 거리는 멀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종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초단파 심부투열에 사용되는 전극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director, applicator, transducer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라고 부르며 자전관에서 발생된 극초단파를 신체로 보내는 도구로 안테나와 반사경으로 구성되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1) A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p478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직경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9.3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구형 반사경으로 구성되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 모습은 도넛형태이며 도넛의 중심부에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의 강도인 최대강도가 형성 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효율적인 치료면적은 직경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의 면적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불규칙하고 볼록한 부위 및 좁은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38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4000" y="980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B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경의 크기만 다를 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와 같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빔의 형성은 도넛형태이며 도넛의 중심부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의 강도인 최대강도가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율적인 치료면적은 직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넓이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 ④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불규칙하고 볼록한 부위 및 좁은 부위의 치료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⑤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구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빔 형성의 양상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와 같으나 반사경의 크기가  크고 치료부위가 좀더 크다는 점이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731880"/>
            <a:ext cx="9144000" cy="53942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3) 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.1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1.25 x 12.5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되는 직사각형 반사경 으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은 타원형이며 강도는 타원의 중심으로 갈수록 커진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가 좁고 평편하거나 오목한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4) D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.1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3 x 53 cm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되는 직사각형 반사경으 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최대강도 및 가열의 분포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와 같으나 거의 사용되지 않는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1063800"/>
            <a:ext cx="9144000" cy="47322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5) E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2.5 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완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직사각형 반사경으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은 타원형이며 강도는 타원의 중심으로 갈수록 커진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크기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보다 커지만 빔의 형성은 오히려 좁게 형성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평편하거나 오목한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1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극초단파의 물리학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극초단파의 특성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300-30,000Mz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10 mm - 1 m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파는 적외선과 단파 사이의 전자파 복사 에너지로서 다른 전자파와 마찬가지로 빛과 같은 성질을 갖고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8209080" cy="65358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접촉형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direct-contact director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얇은 플라스틱 레이다 덮개속에 원형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/4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 쵸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크안테나를 부착한 도자로 다공 유전체에 공기를 불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넣어 피부를 공냉시켜 도자 모서리의 선택적인 가열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방지하고 공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 사이의 극초단파 에너지의 산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과 반사를 최소화시켜 낮은 출력으로 심부조직을 효율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으로 가열할 수 있는 도자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7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점형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focusing director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좁은 국소부위를 선택적으로 가열할 수 있도록 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수하게 만든 매우 적은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8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터널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긴 원통형에 장축으로 홈을 만들어 마치 단파의 콘덴서 전계법과 같이 심부조직 을 고르게 가열할 수 있는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터널형 사용시 특성은 콘덴서 전계법을 사용한 단파심부투열치료와 비슷하지만  피하지방 보다 근육에 온도상승이 높게 나타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신체의 굴곡형에 적합한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양무릎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양어깨와 같이 넓은 부위를 동시에 치료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의 준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  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장비를 치료전에 예비 가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-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출력 상태를 조절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마그네트론의 필라멘트를 치료 온도로 가열하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밑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센치 정도에 손을 넣어 열이 느껴질 정도로 천천히 출력을 증가 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②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환자에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전에 금속 고정물이 있는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 장기의 유무확인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부를 완전히 탈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환자에게 도자를 보지 말도록 지시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혹 조사될 위험있으면 보호안경 착용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감각을 조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감은 기분 좋은 따뜻함을 느껴야 하고 그 이상은 느껴서도 않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혹은 화상을 입을 수 있다고 경고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의 건조 상태 조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중 자세에  대한 지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영역내 금속물 제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는 적당한 치료거리에서 치료 표면에 평행하게 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중에 땀은 항상 제거하고 치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돌출부와 안면조사시 극히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5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위험 및 주의 사항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ko-KR" sz="3200" spc="-1" strike="noStrike">
                <a:solidFill>
                  <a:srgbClr val="261900"/>
                </a:solidFill>
                <a:latin typeface="굴림"/>
              </a:rPr>
              <a:t>화상 </a:t>
            </a:r>
            <a:endParaRPr b="0" lang="en-US" sz="32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저혈 상태의 조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모세혈관과 소동맥이 수축되어 이완되지 않는 조직은 혈류분산 이 안되므로 화상이 생길 수 있으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그렇지 않다해도 궤양이나 조직괴사가 일어 나기 쉽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②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감각 장애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③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골 돌출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④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피부와 도자를 접촉시킨 부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⑤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금속삽입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장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장기의 골단면 조사시 성장지연이 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백내장 발생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주위나 안면조사는 피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0.2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* 0.16 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 이상에서는 백내장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생식기 장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로 남성의 생식선 조사는 피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비의 취급상의 주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비 출력 상태에서 도자를 금속판 표면으로 향하지 말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방호용 커버를 떼낸 상태에서 치료를 하지말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6)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적응증과 금기증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5075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응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 골격계의 상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외상으로 인한 염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좌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과 건의 파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 손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퇴행성 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류마치스성 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천층 관절손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종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천층 염증성이나 감염 질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활막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활액낭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외과절제후 감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농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간부 질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안면신경 마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6)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적응증과 금기증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1440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기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핵성 감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X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선 치료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개월 이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연고제 사용으로 과민해진 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중간정도 이상의 부종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산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역정방형 법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거리제곱 반비례 법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지배를 받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반적으로 임상에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,450MHz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22.5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 이용되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915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33.9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 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3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9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를 발생하는 극초단파기도 이들이 피하조직의 가열을 최소화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 밑에 있는 조직을 더욱 효과적으로 가열시키고 뼈에 의한 반사를 최소한으 로 하므로 이용되고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낮을수록 침투 깊이는 깊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하지방의 가열은 피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7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극초단파치료의 장점과 단점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장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절차가 간편하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좁은 국소가열에 더욱 효과적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감이 좋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낮은 주파수의 사용은 국소적 근육가열에 유리함이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가열의 효율성이 높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90%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출력 판독을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%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눈금으로 정확히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읽을 수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        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68000" y="549360"/>
            <a:ext cx="8496360" cy="59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심부가열 효과는 단파보다 작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관절부 가열에 있어서는 한쪽 방향만 가열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파보다 화상을 일으킬 위험이 크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는 전자파 발생이 크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장기 전자장 장애 받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결론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극초단파의 치료적 효과는 단파와 비슷하다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치료 절차와 치료감의 문제는 극초단파가 더 낫다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국소 심부가열에 효과적이다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05500"/>
                </a:solidFill>
                <a:latin typeface="굴림"/>
              </a:rPr>
              <a:t>초음파 치료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에 사용되는 용어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파의 분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저음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저 가청주파수보다 낮은 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6-20Hz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하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초음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고 가청주파수보다 높은 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7-20KHz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초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수십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MHz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  Hz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에 한계에 이르러 기계적 진동이 일어나지 못하게 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가 매질에 도달하면 매질속 분자가 앞뒤로 진동하여 매질의 분자운동 방향과 초음파의 진행 방향이 평행한 종파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횡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진행방향에 매질분자가 수직으로 상하진동 하는 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체나 액체에서는 발생 못하고 고체에서만 발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골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 경계면에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5838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61900"/>
                </a:solidFill>
                <a:latin typeface="굴림"/>
              </a:rPr>
              <a:t>특     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체에서는 단백질 함량이 많은 조직에서 열 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체조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 등 특히 신경조직에 열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행 초음파와 반사진행파가 맞서서 정지된 상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f = 1/t (t=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밀도가 가장 높은 부분인 밀파의 중간 부위에서 다음 밀파의 중간까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물속에서의 전파속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500m/sec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경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.5mm). 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의료용 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1" lang="en-US" sz="3000" spc="-1" strike="noStrike">
                <a:solidFill>
                  <a:srgbClr val="261900"/>
                </a:solidFill>
                <a:latin typeface="굴림"/>
              </a:rPr>
              <a:t>0.5 to 3 W/</a:t>
            </a:r>
            <a:r>
              <a:rPr b="1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전파 속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속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동에너지이므로 전파매질이 필요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음향임피던스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초음파 에너지 전파의 난이도를 표시한 계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피던스가 높은 매질일수록 쉽게 통과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8" name=""/>
          <p:cNvGraphicFramePr/>
          <p:nvPr/>
        </p:nvGraphicFramePr>
        <p:xfrm>
          <a:off x="685800" y="1219320"/>
          <a:ext cx="7201080" cy="3660480"/>
        </p:xfrm>
        <a:graphic>
          <a:graphicData uri="http://schemas.openxmlformats.org/drawingml/2006/table">
            <a:tbl>
              <a:tblPr/>
              <a:tblGrid>
                <a:gridCol w="3608280"/>
                <a:gridCol w="3592800"/>
              </a:tblGrid>
              <a:tr h="77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 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자파</a:t>
                      </a:r>
                      <a:r>
                        <a:rPr b="0" lang="en-US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(SWD, MWD)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</a:tr>
              <a:tr h="2882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파 역학적 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E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종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소밀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공기 중에 흡수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속 해발수면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(330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㎧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)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파매질 필요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261900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자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횡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고저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진공 중에서도 전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속도 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30km/s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파매질 불필요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ll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발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역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88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피에르 퀴리와 폴작 퀴리가 압전효과에 대한 저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1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랑주뱅이 역압전 효과 이용하여 초음파 발생시킴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독일에서 의학적 이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5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미국 물리의학 협회에서 공식 물리치료 요소로 채택 후 널리 파급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압전 효과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iezoelectric effect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U.S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는 역압전 효과 이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509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 발생기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전류발생 장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0.8-1MHz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변환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ansducer) 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기에너지를 진동에너지로 바꾸는 장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경이 큰 도자가 사용되면 빔의 방산 각도가 작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압전재의 종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p511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천연압전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수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토말린 등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압전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티탄산 바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르콘산연을 많이 사용하고 이외에도 주석산칼륨나트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황 산리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페라이트를 소결하여 만든 산화아연산화철 등을 사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출력조절 장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에너지의 출력 증가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결정의 진동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강도 증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출력범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0.25 - 3 W/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pulse beam - intermittent 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역학적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2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극초단파의 발생장치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초단파는 전원공급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자전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자의 세요소로 구성되어 있으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자전관에서 발생된 극초단파 에너지가 반사경이 부착된 도자의 안테나를 통해서 신체에 전달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784872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물리적 현상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초음파는 서로 다른 매질의 경계면에서 반사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요인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각 조직의 음향 임피던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에 대한 저항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차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사량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X) = Z1 - Z2 / Z1 + Z2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입사각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9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시 반사적지만 정상각도 벗어날수록 입사각과 같은 각도로 반사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향 임피던스의 차가 크면 반사량이 크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고밀도 조직일수록 반사량이 크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 계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통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지방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적용각도 수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매질 보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이동속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도조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 공기 계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헤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 계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음향임피던스차가 나는 두매질을 통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시 굴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계각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각이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0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 되어 두 조직의 경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계면에 평행하게 진행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계각시 전반사 일어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649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감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통과시 초음파 에너지가 흡수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어 열로 전환될뿐만아니라 산란에 의하여 강도가 점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약해지는 감쇄현상이 일어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요인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파길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에 따라 다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가층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에너지가 반으로 줄어드는 깊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에 반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㎒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㎒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2.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&gt;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낮을수록 심부조직을 효율적으로 가열하기 좋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감쇄는 주파수에 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0.87MHz - 18%, 1MHz - 21%, 3MHz - 50%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성질 – 전도는 조직의 단백함량에 비례하고 수분함량에 반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연골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특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밀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성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음향임피던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 및 수분함량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 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산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의 정도에 영향받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특성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에너지의 흡수는 구조단백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함량이 높을수록 높아 관절낭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등 교원 조직의 함량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많은 조직에서 흡수가 많이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00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04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1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18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3(1MHz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시 흡수계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 높고 파장 짧을수록 에너지흡수량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거의 배수로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의 점성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점성도가 적을수록 좋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개물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음향 임피던스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계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예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0.002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0.6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.3-3.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2,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이 흡수계수의 단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가층이 짧은 것은 흡수계수가 크기 때문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계수가 낮은 것을 치료시 전파 매질로 사용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에너지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0%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를 전파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체적용시 오일 듬뿍 넣어서 흡수계수를 낮추어서 적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를 근섬유에 횡방향으로 밀면 흡수계수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높아진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의 분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의 방산각은 파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직경에 따른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산각이 크면 강도가 빨리 약화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작으면 강도가 강하고 침투 깊이가 깊어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고로 주파수가 높고 방산각이 작아야 좋은 치료기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율적인 초음파치료기 선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높은 주파수의 초음파는 에너지 집중이 용이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직경이 크면 심부 가열에 효과적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마이크로 마사지 세포막의 투과성 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단백합성능 증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파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운동과 진폭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입자의 진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마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동현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cavity formation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계적 효과로 나타나는 조직의 파괴반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인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너무높은 강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부적절한 치료기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함있는 치료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포가 국소압력에 의해 소기에 팽창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밀기에 압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안정공동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불안정공동으로 구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516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음장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intensity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역의 특징은 도자직전에서 에너지의 분포가 불균일 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near field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일정한 거리에 걸쳐서 최대강도와 최소강도가 매우 불규칙하게 분포하는 부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  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원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far field)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장의 마지막 최대 강도가 나타난 후 강도가 비교적 규칙적으로 감소하면서  진행하는 부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2. </a:t>
            </a: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극초단파 투열의 생물학적 및 생화학적 효과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침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침투깊이는 파동의 주파수와 매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반적으로 파동의 에너지는 통과한 거리에 따라 지수적으로 감소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증가함에 따라 감소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수분함량이 적은 조직을 수분함량이 많은 조직 보다 더 깊이 침투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침투깊이는 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음장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음파의 빔은 일정한 거리까지는 평행하게 진행하다 일정한 거리에 도달하면 급속히 넓게 확산되며 변환기에 평행하게 진행하는 부위가 근위장이고 확산되어 진행하는 부위가 원위장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송파선의 에너지 분포는 도자표면의 중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/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부분이 최대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 방법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앞부분 치료부위의 반에서 다시 시작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간섭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interference field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자의 강도가 균일하지 못하고 불규칙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것은 변환기의 전면에서 생기는 불가피한 현상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쇄간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보강간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펄스 초음파 맥동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×100(%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간 간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주기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+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간 간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 에너지의 생리적 효과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마이크로 마사지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기계적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미세마사지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cavitation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공동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기포발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체 조직층 내에서 공동화는 일상적으로 사용되는 치료강도보다는 훨씬 높은 강도를 사용할 때 일어 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공동화는 용해된 가스의 기포가 형성돼서 매 압력 해재 기간동안에  커지는 현상을 말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층의 진동과 에너지 흡수를 통해서 에너지 농축면이 만들어지거나 또는 실제적으로 조직이 파열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179280" y="47592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음향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기계적 압력에 의해 세포막의 경계면을 따라 액체가 미세하게 이동하는 현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세포막에서 분자운동을 증진시켜 인지질 및 단백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이동을 촉진시켜 세포활성을 변화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세포막의 확산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단백 합성능을 증진 시키며 치유과정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의 전기활성에 영향주어 통증완화에 기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의 정체와 혈구의 침착으로 혈전형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순환장애 환자 적용시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 에너지의 생리적 효과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 작용 – 열 발생은 조직의 형태와 방출되는 주파수에 의해 좌우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중에서는 조직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inch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도 침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 발생이 큰 조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체조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조직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온도 상승으로 일어나는 효과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량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염증반응 유발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막의 투과성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진대사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교원조직의 신장성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증역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경축 완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경전도 속도의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소활성화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골격근 수축력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강도 적용시 일어날 수 있는 현상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병적골절 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골의 성장 지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단판 손상을 일으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br>
              <a:rPr sz="3000"/>
            </a:b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학적 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당류의 전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정화의 변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수분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포화된 용액의 결정화산화물질의 해중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-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용량 적용시 혈당감소등 화학적 변화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69464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기적 효과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조사시 압력을 받는 단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셀루로스 등 거대분자들이 압전효과에 의해 전하를 띄게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와같은 전기적효과는 허혈이나 통증이 있는 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에서 전하를 띄고있는 단백질을 끌어 당  기므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사산물을 유리 시킬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생물학적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biological effect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충혈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진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관확장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림프류의 촉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진대사의 자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산도의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확산의 가속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 혈장의 혼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 호흡의 변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백질에 대한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민감성 증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결합조직이 흡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백질 결합을 이완시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ROM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을 증가 시킬 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치료적 효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구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의 신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상승으로 교원조직의 점액탄력성 및 분자결합이 변화되고 소성변성을 일으켜 신장력이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의 감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적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통증 및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계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적 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염증 수복 및 치유촉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칼슘침착의 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icro - massage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살균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3.5 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간 하면 살균효과 있으나 세균의 치사량이 높으므로 사람에게 적용키는 곤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절치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비극성 분자는 전자장에서 교대하는 전하를 향해 비틀릴 것이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쌍극자 분자는 전후로 회전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은 전자장의 방향에서 진동하여 열을 발생 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그 흡수의 정도는 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양과 밀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전기적 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적 성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이 높고 전도도가 낮은 매질이 전자파 에너지의 흡수가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으로 유전율이 높고 전도도가 낮은 근육은 유전율이 낮고 전도도가 좋은 지방 보다 에너지 흡수가 많아 심부투열로 골격근에서 온도상승 시킬 수있다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380520" y="228600"/>
            <a:ext cx="807732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적용기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상적 응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에는 직접법과 간접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부와 도자사이에 공기 간격이 있으면 진동에너지의 손실이 크므로 매개체로서 액체파라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식물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글리세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연고 등을 사전에 환부에 도포하고 치료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irect contact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정도자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를 환부에 가볍게 압착고정해서 치료하는 방법으로 주로 국소   적 응용에 이용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동도자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를 환부에 밀착시켜 이동하는 치료방법이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여기에는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작은 회전 밀기와 직선 밀기의 두가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방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380880" y="304560"/>
            <a:ext cx="838224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indirect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부위에 굴곡이 심하거나 외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궤양 등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를 직접 접촉 시키기 곤란한 경우 에 사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수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침수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under water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을 욕조 또는 적당한 용기에 넣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를 피부에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-2cm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떨어진 거리에서 주로 직선 밀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의 방법으로 천천히 수행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은 초음파에 유효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이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어떠한 돌출부도 온전하게 덮어버린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액체 주머니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cushion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얇은 고무장갑이나 프라스틱 주머니 속에 따뜻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한 물이나 기름을 넣어 피부 위에 놓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에서 치료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를 대고 치료하는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와 환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이에는 윤활성 전파매질이 도포되어 접촉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좋아야 한다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304920" y="53316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 치료기기의 응용기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저주파 겸용 초음파 치료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medcosound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장비의 원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US + EST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용분야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막발통점 탐색과 제통치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발통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igger point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충격파가 중추신경계로 부터 가해지는 아주 과만한 부위로 관련통을 일으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탐색법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증부나 그 주위에 변환기를 움직이면 정상근육은 전류가 부드럽게 느껴지나 발통점에서는 날카로운 통증을 느끼게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처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간 발통점에 강축 전류를 강하게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전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초음파 약물 도입법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(phonophoresis)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열 효과에 의해 세포막의 투과성이 증진되고 음향흐름과 같은 기계적 효과에 의해 확산속도가 증가함에 따라 약물의 흡수속도가 증가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도입은 물질의 한가지 이온만 도입되고 침투깊이가 낮지만 음파영동은 물질분자 전체를 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어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까지 침투 시킬 수 있어 골격근과 신경에 영향을 준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304920" y="38052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 에너지를 이용하여 조직에 약물을 주입하는 기술로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약물의 효과와 초음파 의 효과를 복합해서 기대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약품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항생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마취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스테로이드 크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티죤 크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salicylat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을 사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직류이온 도입후에 초음파를 실시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응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 좌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염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초염 등 관절 및 근육계 질환에 유효하며 특히 관절기능  장애가 있을 때 효과적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609480" y="838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기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너지강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면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당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치료 후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쉬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치료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일 실시 시 치료강도가 강해서 세포  허탈이 오기 때문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약물의 농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%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강도가 낮거나 약물의 농도가 낮으면 효과가 적으므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도입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%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치료 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5075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적 사용량의 범위 시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온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0-4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 로 상승시키는데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이면 충분하므로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또는 그 이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변환기의 면적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1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면적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7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면적에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기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당 최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치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총 치료시간은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까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대개는 변환기의 효과 방출면적 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배 되는 치료 부위에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.5w/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으로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치료 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일반적 적용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5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기준시 관절 주위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속초음파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3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맥동초음파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5 - 1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7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.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10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정도 치료시간 늘린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정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0.02-0.1 , 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 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동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1-2 , 3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US -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온도 상승에 유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신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강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 및 통증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류량 증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신경전도속도 증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벼운 염증반응 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PUS -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비열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 및 뼈의 치유촉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대사 촉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통증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횟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총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-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실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이상 계속 치료시 백혈구 및 적혈구의 수가 감소 하 는 것으로 알려져 있으므로 연속치료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가 한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 있으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후 몇 주 쉬고 다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실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가 있으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-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 휴식하고 다시 치료를 실시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3-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후 효과 없으면 초음파 치료가 적합치 않으므로 딴치료 방법 모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응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87138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형외과 영역의 관절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육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 등에 관계되는 통증을 환자에 유효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통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경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둔부에 발생된 타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어깨 결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육통 등의 통증에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HNP.sciatica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등의 통증에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질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만성질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 관절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종창성 슬관절염이나 혈종에 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척추관절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변형성 척추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관절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주위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부관절부 질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외상성 염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점액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손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쇄관절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완신경총염 등의 동통과 압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화골성 질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외상성 화골성 근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과화골형성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상석회 침착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부조직에 도달하는 파동은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의 경계에서 반사되어 되돌아 가는 에너지의 양에 달려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되는 에너지의 양은 조직의 전기적 특성에 의하여 결정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1000MHz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하의 주파수에서는 대부분의 에너지가 심부조직에 도달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경우 에너지의 분포가 피부 및 피하지방의 두께에 달려 있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너지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%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도가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의 계면에서 반사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응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초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만성의 경우 표재열 치료와 함께 사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좌골신경통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둔부와 좌골신경부를 따라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 병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기의 유착방지와 부종 흡수를 위해 사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-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간의 조직액 흡수 및 진통  작용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의 병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급성의 경우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old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와 병용실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용 음파는 단속파로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금기증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세포가 있는 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에 함유된 물은 점성도가 낮고 세포함량이 낮아 쉽게 공동이 형성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용량에서도 공동이 형성되어 비가역적 손상을 초래하므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TM jt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시 눈에 영향 미치지 않도록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 에너지가 망막까지 도달하여 망막의 국소파괴가 일어날 수 있고 수정체는 혈액공급이 불량해서 열을 분산하지 못해 온도 상승으로 백내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cataract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금기증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laminectomy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는 척추와 두꺼운 연부조직으로 보호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생식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장기 아동의 골단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골전의 골절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행성 심장질환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주 의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air - filled cavity sinus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반기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등 공기가 차 있는 강에서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US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 반사되므로 치료 시  낮은 용량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1w/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2-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water - filled cavity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삼출액이 고인 관절 등 물이 차 있는 기관은 공동형성의 위험이 있어  낮은 강도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생식기관  고환이나 임신부 자궁 등 생식기관은 불임증 및 여러 기형의 위험을 고려 원칙적으로 금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단판 일반적 치료 강도에서는 골단판 손상위험이 없는 것으로 알려져 있으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3w/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상  고정 법 치료 시 골단판 손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뼈의 탈 미네랄 및 성장지연이 나타나므로 주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금속 열 분산이 빨라 금기 아니나 매입된 금속이 적거나 표면조직에 있을 때는 낮은 강도로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밀도 포리에틸렌 및 아크릴 등 플라스틱 소재를 사용하여 관절성형시 초음파 특성에 대해 알려져 있지 않으므로 금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위 험 요 인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용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변환기의 느린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변환기의 접촉불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매질 부족 혹은 과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통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%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씩 감소 하거나 치료 중단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치료의 장점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심부관절의 가열이 가능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너지의 침투가 전자파 에너지보다 깊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금속삽입부에도 치료가 가능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비 온열적 효과에 의해서도 진통성이 우수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내 액체 분산력이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하지방의 가열은 피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의 가열효과가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온 도입법이 간단하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효과가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물리치료 시법 중에서 세포차원의 강력한 에너지 중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 하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너지가 강해서 치료시간이 짧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차원의 미세마사지로 진통효과가 우수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전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 에너지가 전환되어 열에너지화되면 전도에 의해 열교환이 일어나고 안정상태가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투열 치료에 의한 생리적인 반응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온도상승에 대한 조직의 반응과 흡수된 에너지의양에 달려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관 확장에 의한 혈류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을 다른 부분으로 분산시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②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경도의 열은 근육의 증가된 긴장에 대한 반사적인 감축을 일으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&gt;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증가된 근육내의 혈류가 발통자극을 제거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③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경축 감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④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진통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3. </a:t>
            </a: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극초단파 투열의 치료효과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초단파의 치료효과는 단파투열치료와 같지만  침투가 표재에서 일어나므로 표재조직의 치료에만 효과가 있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체지의 한쪽 면만을 조사할 수 있으므로 국소화된 증상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동통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표재의 근육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대 및 작은 표재의 관절을 침습하는 외상성 및 류마치스성 증상의 치료에 유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의 완화에 의한 동통의 경감도 포함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액공급의 증가로 인한 결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맥의 환류 증가 시키고 부종에 의한 삼출물의 재흡수를 돕는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30T22:46:35Z</dcterms:created>
  <dc:creator>CTS</dc:creator>
  <dc:description/>
  <dc:language>en-US</dc:language>
  <cp:lastModifiedBy>권순태</cp:lastModifiedBy>
  <dcterms:modified xsi:type="dcterms:W3CDTF">2005-05-28T02:00:58Z</dcterms:modified>
  <cp:revision>289</cp:revision>
  <dc:subject/>
  <dc:title>PowerPoint 프레젠테이션</dc:title>
</cp:coreProperties>
</file>