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CD701-9AFC-4D67-BE6E-AD219D197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8671F-6F2A-4913-8188-889F99724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DC45C-5363-4C16-883D-0061AEB92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5A0BB-16E7-423D-9E35-3CAF39608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70E8A-F52E-40BC-B4F0-B1E7BAFA3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1E61D-DF4A-4F07-8915-696CF5395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1A058-7516-421A-83CC-C1D6ABFFF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7A4C8-E628-4487-A58F-28C168476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A648D-5D3B-4C9D-BED9-E1EB9395F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D0101-96D1-4BF5-86FF-2305C3AC5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9D793-3D3E-42A1-870E-0483B16C9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58956-2AA2-420F-A9AC-00839F870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F38CA-30DA-4190-8404-0779CE348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0D1FA-7D68-4FC3-ADDF-38D1C3397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4E790-6437-440A-863C-F6F8A1766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EDCB7-0A17-4C2D-848B-099814258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4A0E0-4234-4ECD-8B97-3062D1F50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C1397-81A2-49A2-9A4A-FB118F4C6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B929A-1338-488D-B347-327129D56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4AC12-262B-44AF-95B0-82E202315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2E859-EF0F-4C14-AC80-D7A4FE32D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F78A6-0A31-4C1F-9A8F-A4B631C4A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FC4EF-CF1B-4C8D-A73A-D89FDA6F2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8349A-64DA-41C9-932A-DCD9C153C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A72B4-0672-4D5D-AAC0-15BBBD2F95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5C93E-39B7-4CE8-B340-76CBC5D52C9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6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장 정서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-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행동장애아 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1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정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진흥법 시행령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17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서장애에 자폐를 포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DEA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체 정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장애 아동협회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자폐시민협회의 자폐증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폐증과 자폐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인 등에 대한 특수교육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폐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원인 및 출현율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서와 행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각각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0.55%, 0.15%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원인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생물학적 요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손상과 뇌기능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경적 요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가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3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분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교육적 분류체제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분열적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사회적으로 부적절하거나 미숙한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사회적 위축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상동적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공격적인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미국 정신의학회의 정신장애진단 및 통계편람</a:t>
            </a: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(DSM-IV)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전반적 발달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주의력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결핍 및 파괴적 행동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유아기 또는 초기 아동기 급식 및 섭식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틱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배설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분리불안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선택적 함묵증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애착장애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상동적 운동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통계적 분류체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외부지향성 및 내부지향성 행동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4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반적 정서행동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적응행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업성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폐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극 과잉선택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낮은 동기유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기자극 반응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강화와 결과에 대한 독특한 반응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5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진단평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선별검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검목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checklist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투사검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접 관찰과 행동 측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02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6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 및 중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0074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관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계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급 행동관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물 치료와 교육의 병행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 하세요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!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13" name="Picture 4" descr="MCj04042630000[1]"/>
          <p:cNvPicPr/>
          <p:nvPr/>
        </p:nvPicPr>
        <p:blipFill>
          <a:blip r:embed="rId1"/>
          <a:stretch/>
        </p:blipFill>
        <p:spPr>
          <a:xfrm>
            <a:off x="2627280" y="1844640"/>
            <a:ext cx="439272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9T15:10:29Z</dcterms:created>
  <dc:creator>.</dc:creator>
  <dc:description/>
  <dc:language>en-US</dc:language>
  <cp:lastModifiedBy>sec</cp:lastModifiedBy>
  <dcterms:modified xsi:type="dcterms:W3CDTF">2010-01-11T00:15:28Z</dcterms:modified>
  <cp:revision>8</cp:revision>
  <dc:subject/>
  <dc:title>제 6장 사회교과교육</dc:title>
</cp:coreProperties>
</file>