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9836-DB5B-47A7-9FB2-83FE4983E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00F9-9776-4F98-91F3-885A50AB9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15E0-649A-40A0-A4CA-A3B213588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E023-6624-4136-96DA-49AC56F3F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90E18-AA08-49D9-8C36-DD7C43A79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6DD08-A5CA-4BF2-B81E-35656290D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66DF0-C57B-4F2F-991F-6446A9E38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47CD6-6001-44AA-940A-DDA3BBAC3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F4BB8-7982-47EC-BD74-CF9C7F103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2F9CE-1A20-4408-904A-9DEF2B2FA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3A2D0-8C03-42B7-85EB-7BDE7CEE8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D041-D542-4156-A03C-425B103FE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225D6-34F1-40E7-838B-4256B5EDF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9D0EC-CA5D-4998-977A-9F9F5DAD6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99C35-E863-4C9B-B2EA-415C2AEFB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1BFE0-77FC-41A7-8101-35556FBB3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BDE71-600F-44DF-A2DC-3C724BA5A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A1F4-BB8C-4266-A490-E390045E2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F5A7-22EC-4642-ABAA-484BC46C8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6D54-79E2-449A-AE2C-0B118536F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A8A8-65EB-4997-AC50-7BE581C44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C947-4FF3-42CE-A14F-010C07969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0FDD-5629-4843-A6EE-7A8CBFD8C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419F-C026-45A5-96FF-55B9FB78C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44269-D6AF-413B-A846-50F52CC807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F7695-0602-4E44-9C9B-C2B08509B6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8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원과 교원단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복지와 교육의 본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밀그램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예일대학교 심리학자 조교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tanley Milgr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나치의 학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충격 실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5 : 35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필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적 동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집단의 이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부상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신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익보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 향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 이상의 실현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은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공성과 공익성을 띠는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합적 성격을 띤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의단체가 아닌 법정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역할과 기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과 안정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을 대변하고 권익을 보호 증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자질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 경제적 지위 신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정책의 형성과 결정 과정에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복지와 혜택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 복지와 사회의 건전한 발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한국의 교원단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단체총연합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국교직원노동조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교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총연합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단 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논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1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2T05:54:22Z</dcterms:modified>
  <cp:revision>11</cp:revision>
  <dc:subject/>
  <dc:title>제 6장 교사교육 </dc:title>
</cp:coreProperties>
</file>