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667A-6F35-47B2-B8C9-82CA96F69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82FC-E939-4523-AEDD-E7C748636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A737-E7E2-4DFA-97B3-C8A173491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965F-4A3F-4C34-B02F-B0BB454B2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417E1-7EB1-416B-9A9A-6E2E79DB9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3140D-171D-4FCD-B5F9-EAEFF6545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14AC4-0654-4EE6-939B-884D7E6A4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D6BAC-90DE-49C8-9EAC-6419D3071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88B36-5377-46BF-998E-58D393764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499EF-B3E6-4186-83F2-4AEBB789D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B8DF8-4E2B-453B-8FA0-346A32360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0E32-B6DC-4570-AE56-70AC0C77A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FAF65-4798-44CC-8EB4-3B216B153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E35D4-3F49-48E8-BB75-97D2F356D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25C9C-4F76-4F5B-BF51-674C320C1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33D83-5356-41E8-856C-8D88EDF87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FF7F2-3BAD-4147-AC37-36DAAF291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D5C0-575A-4509-BB9A-6B540B771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201E-46DA-4B3F-8C74-48C7DF845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1339-594E-438D-BD0A-AFF8F2663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4A4A-7DA2-42F5-B113-B07C45886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BCB4-DDCF-4F0C-A4A0-24293FCD8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56B0-D10C-4F6A-8146-D0E3009DD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CE96-2CCA-421B-B651-E077BDAE1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8F6C2-4876-4752-9B9E-C8F491C9910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55D48-04D0-4F12-BA72-A4A9DCB8DDC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7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장 행동관리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645000"/>
            <a:ext cx="64008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고전행동주의와 신행동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과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-S (ABC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수정의 관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거 또는 증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성취동기 향상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상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칭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흥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동기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효능감과 귀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행동수정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한 행동의 증가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토큰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할머니 법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emark Principl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계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하지 못한 행동의 감소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소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대책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학급관리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의 물리적 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조 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좌석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생활 규칙 제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질문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?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979640" y="1844640"/>
            <a:ext cx="47530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0T03:46:38Z</dcterms:created>
  <dc:creator>.</dc:creator>
  <dc:description/>
  <dc:language>en-US</dc:language>
  <cp:lastModifiedBy>f</cp:lastModifiedBy>
  <dcterms:modified xsi:type="dcterms:W3CDTF">2007-05-02T01:29:10Z</dcterms:modified>
  <cp:revision>9</cp:revision>
  <dc:subject/>
  <dc:title>제 7장 체육교육과정</dc:title>
</cp:coreProperties>
</file>